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3.wmf" ContentType="image/x-wmf"/>
  <Override PartName="/ppt/media/image14.jpeg" ContentType="image/jpeg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wmf" ContentType="image/x-wmf"/>
  <Override PartName="/ppt/media/image7.wmf" ContentType="image/x-wmf"/>
  <Override PartName="/ppt/media/image11.jpeg" ContentType="image/jpeg"/>
  <Override PartName="/ppt/media/image12.wmf" ContentType="image/x-wmf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928E-9DD3-41AD-9A47-EE4FDA6E4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3D25-43B0-459B-8239-EA3ED8F38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9AA8-41C9-4ED8-A0DF-A8C2D4A15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EFF1-0BB5-4705-B84A-CD242C29F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80645-3429-4E85-8D74-96365E900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F4673-025F-4048-A528-75BD5B8E5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EFE0F-D4FA-4D69-88F6-B023E12BF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9529E-4466-4743-AB7C-64BB558BE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FD196-08C0-4328-A1B4-2C689351E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DD42A-163A-4319-A934-0C916755C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41F50-5BCF-42D3-AD53-CED8DC166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BF63-6922-4A06-BAD2-365A261F0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6B152-FBD8-40C5-9124-079490B4E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79587-9234-4BC8-B721-F32B38444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BA94C-525E-4076-AC0E-4C248F993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F7383-AA63-442C-9DCE-2B4E6C536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86AFE-578A-4BB2-AEE6-904B1BB91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F8E668-1F0B-434A-8B35-3A850392A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12461B-F418-4039-BF88-65CA12700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9BCFDE-1525-4EDE-AB48-485A14BA9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9CFC3A-0648-42DE-9AF5-188A6BD7C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E52410-E1D7-4B2C-85D6-61736D68D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C437-0CAD-4966-A2E3-DA37A7F53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8348B0-A120-444D-BC7F-0587D9C06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68DF70-3F99-4769-BD01-8025940B6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08BE46-894C-4F04-8C85-B9375EAEF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D96777-785F-4C94-A465-7D6B0D56F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2C1067-04C0-45FD-B44E-F38A31F4B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FC7154-B389-49EB-A79F-D577DE5AA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C4DAE3-2348-4BCB-9628-A0E5E0B0D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64F6BC-96BA-43BD-85A8-37CE2A3D8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8B1EE7-7A01-4721-B154-221BD833B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BD436C-4323-42EC-9E6D-F05DFAC39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7C46-9C27-47A2-AC93-71029E1BB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EFAEE1-7351-4946-BDD4-973900B9C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405FDC-9697-4A6D-991A-F04C015A5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398B64-5D2E-4367-BD12-C24863D42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A55A27-F0B9-41D9-94B9-4AF88A287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7C64AE-4407-4085-9BF1-5890C64B8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FC2D42-DE2D-460A-BD25-79EE9D682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5F6E8B-E9A5-4F5E-9A91-48078A9F9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2EEA1A-95EF-48B6-9296-822B0FB9D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305C83-DCBE-4BA6-871D-AC82FDDBB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2D233D-1574-4CE9-8116-0BAF3CCDE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F9A3-7273-4F0D-904B-9703F350C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FAD76F-0AFA-434F-8B35-F1FDCD848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1D7D78-3446-4C69-B777-9786DB53F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00D975-AF4C-4529-ADB9-074CC6043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CD19BD-308D-4013-9DA5-628B57914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3F5EA3-7508-47C8-8DFB-63E93B0FF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1BD909-6FD9-4A43-8185-655913A6E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BE7734-5C8B-46A1-9A83-C4B98FE5A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8C0088-1BE0-4A38-BD3B-8BC41D9F1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309339-0EDC-401A-9701-74FBFECB0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FAB2B3-6291-4D7D-8340-B002D9BA0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C7C4-956E-4E02-A634-6E32386BB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E665CF-3FD1-426B-97F6-BEA616F0C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1D38A63-2B4B-4C47-B004-58CB0CDDE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01EC7A5-6EBE-4CDB-9607-629BF1701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C6995CE-7E24-45F9-8A7F-C6A6D4B2B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B9FFD1E-9399-4D79-AC48-55766137C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D7864B2-392F-49EF-9FA3-5C730D333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2AE57ED-840A-4E58-AD2A-8A19EAEF5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1565359-4A88-4B2F-BE9D-E39003DAE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6DBE714-02B1-4BE1-8D07-468DBDC14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74DBD07-7416-4406-92FE-313D786A6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97DA-E9B4-4C75-B621-FE45DD454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C857BE1-6AA8-42AD-A003-CEF27205B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E4C2853-503A-4FD1-941E-D998EADD4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4491D72-81D0-4ACA-ADC2-48DFA4AE1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32D7-C8ED-4438-9D20-2E7DBBC78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BDB5-45F9-44B1-B723-4A4F82731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47101-F33D-459A-B277-39090D4C9AD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277C1-49FF-45CC-BAB7-B60713664E5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95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987A1-D0E4-40F4-8911-D0122319D14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dt" idx="10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sldNum" idx="1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6A094-9E31-4300-8470-D42EF383AC5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80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184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186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1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93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805CA-78E4-43D5-B2EF-A5506FE35BF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241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245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6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247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2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5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AFEA2-E683-4638-B14E-12EF51974C0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1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987640" y="7646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0039"/>
                </a:solidFill>
                <a:latin typeface="Arial"/>
              </a:rPr>
              <a:t>НЕДЕЛЯ МАТЕМАТИКИ</a:t>
            </a:r>
            <a:endParaRPr b="0" lang="en-US" sz="4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2484360" y="236232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ОТКРЫТОЕ МЕРОПРИЯТИЕ        В 1-4класса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МАТЕМАТИЧЕСКАЯ ВИКТОРИНА 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505800" indent="-50580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колько граней у неочищенного карандаш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колько раз минутная стрелка обгоняет часовую за сутк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кое число обращается в бесконечность без всяких математических действи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ожет ли число диагоналей многоугольника равняться числу его сторон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сли дома на улице пронумерованы от1 до 50, сколько раз встречается цифра 4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Ответы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 22 раза, в начале и в конце суток стрелки только сближаютс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)8 в знак бесконеч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)в 5 –угольни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)15 ра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9144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Конкурс « Кто больше ?»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исло десятков в тысяч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каком числе столько же цифр, сколько букв в его написани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робь, меньшая единиц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умма противоположных чисе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колько вершин у куб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одуль ну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именьшее семизначное чис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Конкурс « Кто больше ?»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колько кг в половине тонн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личество делителей простого числ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амое простое маленькое чис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Число, на которое делят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ва числа, произведение которых равно 1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Часть прямой, ограниченная двумя точк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одуль числа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Конкурс пословиц и поговорок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пословицах и поговорках заключена вековая мудрость русского народа, а числовые данные придают им более яркий, реальный смыс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то больше назовёт пословиц и поговорок, связанных с математи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Конкурс высказываний о математике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то больше знает высказываний великих людей о значении математик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Подведение итогов 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Если мы  действительно знаем что-то, это благодаря изучению математи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 П.Гассенди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МАТЕМАТИКА ВОКРУГ НАС 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«Дорогу осилит идущий , а математику –мыслящий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Математика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коном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ельское хозяй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орона стра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доров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рхитекту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троитель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Николай Иванович Лобачевский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724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Родился 1 декабря 1792 г. в г. Нижний Новгород в Росс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В 1807 г. поступил в Казанский университет, в котором ему предстояло провести последующие 40 лет жизни, как студенту, экстраординарному профессору и ректор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Он является основоположником неевклидовой геометр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Его называют “Коперником геометрии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105520" y="1676160"/>
            <a:ext cx="3200400" cy="41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image2" descr=""/>
          <p:cNvPicPr/>
          <p:nvPr/>
        </p:nvPicPr>
        <p:blipFill>
          <a:blip r:embed="rId1"/>
          <a:stretch/>
        </p:blipFill>
        <p:spPr>
          <a:xfrm>
            <a:off x="5105520" y="1676520"/>
            <a:ext cx="3200400" cy="4114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 txBox="1"/>
          <p:nvPr/>
        </p:nvSpPr>
        <p:spPr>
          <a:xfrm>
            <a:off x="4191120" y="990360"/>
            <a:ext cx="4572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ctr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Русский математик, педагог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Учился в Московской славяно-греко-латинской академ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С 1701 г. и до конца жизни преподавал математику в школе математических и навигационных нау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Напечатал свою “Арифметику”, по ней учился М.В. Ломоносов, назвавший её “вратами учёности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Ввёл термины “множитель”, “произведение”, “делитель”, “частное”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image1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2895480" cy="4038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15" name=""/>
          <p:cNvSpPr/>
          <p:nvPr/>
        </p:nvSpPr>
        <p:spPr>
          <a:xfrm>
            <a:off x="380880" y="380880"/>
            <a:ext cx="815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09480" y="38088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Леонтий Филиппович Магниц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77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" dur="770" fill="hold"/>
                                        <p:tgtEl>
                                          <p:spTgt spid="31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" dur="77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" dur="77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5100" spc="-1" strike="noStrike">
                <a:solidFill>
                  <a:srgbClr val="cc0099"/>
                </a:solidFill>
                <a:latin typeface="Arial"/>
              </a:rPr>
              <a:t>Индия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09480" y="2819520"/>
            <a:ext cx="510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Arial"/>
              </a:rPr>
              <a:t>Есть кадамба цветок. На один лепесток</a:t>
            </a:r>
            <a:br>
              <a:rPr sz="1800"/>
            </a:br>
            <a:r>
              <a:rPr b="1" i="1" lang="en-US" sz="1800" spc="-1" strike="noStrike">
                <a:solidFill>
                  <a:srgbClr val="0033cc"/>
                </a:solidFill>
                <a:latin typeface="Arial"/>
              </a:rPr>
              <a:t>Пчелок пятая часть опустилась.</a:t>
            </a:r>
            <a:br>
              <a:rPr sz="1800"/>
            </a:br>
            <a:r>
              <a:rPr b="1" i="1" lang="en-US" sz="1800" spc="-1" strike="noStrike">
                <a:solidFill>
                  <a:srgbClr val="0033cc"/>
                </a:solidFill>
                <a:latin typeface="Arial"/>
              </a:rPr>
              <a:t>Рядом тут же росла вся в цвету сименгда,</a:t>
            </a:r>
            <a:br>
              <a:rPr sz="1800"/>
            </a:br>
            <a:r>
              <a:rPr b="1" i="1" lang="en-US" sz="1800" spc="-1" strike="noStrike">
                <a:solidFill>
                  <a:srgbClr val="0033cc"/>
                </a:solidFill>
                <a:latin typeface="Arial"/>
              </a:rPr>
              <a:t>И на ней третья часть поместилась.</a:t>
            </a:r>
            <a:br>
              <a:rPr sz="1800"/>
            </a:br>
            <a:r>
              <a:rPr b="1" i="1" lang="en-US" sz="1800" spc="-1" strike="noStrike">
                <a:solidFill>
                  <a:srgbClr val="0033cc"/>
                </a:solidFill>
                <a:latin typeface="Arial"/>
              </a:rPr>
              <a:t>Разность их ты найди, трижды их ты сложи,</a:t>
            </a:r>
            <a:br>
              <a:rPr sz="1800"/>
            </a:br>
            <a:r>
              <a:rPr b="1" i="1" lang="en-US" sz="1800" spc="-1" strike="noStrike">
                <a:solidFill>
                  <a:srgbClr val="0033cc"/>
                </a:solidFill>
                <a:latin typeface="Arial"/>
              </a:rPr>
              <a:t>На кутай этих пчел посади.</a:t>
            </a:r>
            <a:br>
              <a:rPr sz="1800"/>
            </a:br>
            <a:r>
              <a:rPr b="1" i="1" lang="en-US" sz="1800" spc="-1" strike="noStrike">
                <a:solidFill>
                  <a:srgbClr val="0033cc"/>
                </a:solidFill>
                <a:latin typeface="Arial"/>
              </a:rPr>
              <a:t>Лишь одна не нашла себе места нигде,</a:t>
            </a:r>
            <a:br>
              <a:rPr sz="1800"/>
            </a:br>
            <a:r>
              <a:rPr b="1" i="1" lang="en-US" sz="1800" spc="-1" strike="noStrike">
                <a:solidFill>
                  <a:srgbClr val="0033cc"/>
                </a:solidFill>
                <a:latin typeface="Arial"/>
              </a:rPr>
              <a:t>Все летала то взад, то вперед</a:t>
            </a:r>
            <a:br>
              <a:rPr sz="1800"/>
            </a:br>
            <a:r>
              <a:rPr b="1" i="1" lang="en-US" sz="1800" spc="-1" strike="noStrike">
                <a:solidFill>
                  <a:srgbClr val="0033cc"/>
                </a:solidFill>
                <a:latin typeface="Arial"/>
              </a:rPr>
              <a:t>И везде ароматом цветов наслаждалась.</a:t>
            </a:r>
            <a:br>
              <a:rPr sz="1800"/>
            </a:br>
            <a:r>
              <a:rPr b="1" i="1" lang="en-US" sz="1800" spc="-1" strike="noStrike">
                <a:solidFill>
                  <a:srgbClr val="0033cc"/>
                </a:solidFill>
                <a:latin typeface="Arial"/>
              </a:rPr>
              <a:t>Назови теперь мне, подсчитавши в уме,</a:t>
            </a:r>
            <a:br>
              <a:rPr sz="1800"/>
            </a:br>
            <a:r>
              <a:rPr b="1" i="1" lang="en-US" sz="1800" spc="-1" strike="noStrike">
                <a:solidFill>
                  <a:srgbClr val="0033cc"/>
                </a:solidFill>
                <a:latin typeface="Arial"/>
              </a:rPr>
              <a:t>Сколько пчелок всего здесь собралось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80880" y="1447920"/>
            <a:ext cx="19235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6172200" y="3276720"/>
            <a:ext cx="2286000" cy="220968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228600" y="1143000"/>
            <a:ext cx="8458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ндийские ученые сделали одно из важнейших в математике открытий. Они изобрели позиционную систему счисления – тот способ записи и чтения чисел, которым теперь пользуется весь мир. Сами цифры, которыми мы пользуемся, – тоже изобретение математиков Древней Инд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3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3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3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7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9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0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6000"/>
                            </p:stCondLst>
                            <p:childTnLst>
                              <p:par>
                                <p:cTn id="4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 flipH="1" rot="10800000">
            <a:off x="6553080" y="228600"/>
            <a:ext cx="2363760" cy="1776240"/>
          </a:xfrm>
          <a:prstGeom prst="rect">
            <a:avLst/>
          </a:prstGeom>
          <a:ln w="0">
            <a:noFill/>
          </a:ln>
        </p:spPr>
      </p:pic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800" spc="-1" strike="noStrike">
                <a:solidFill>
                  <a:srgbClr val="ff0000"/>
                </a:solidFill>
                <a:latin typeface="Arial"/>
              </a:rPr>
              <a:t>Древняя Русь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1134 году новгородский монах Кирик написал сочинение “...о том, как узнать человеку числа всех лет”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В книгах новгородских писцов XV в. упоминаются такие меры жидкостей: бочка, насадка и ведр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1682 году в Москве вышла книга: “Считание удобное, которым всякий человек, купующий и продающий, зело удобно изыскати может число всякия вещи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Особенно важную роль в развитии русской науки сыграла книга “Арифметика, или наука числительная”, написанная Леонтием Филипповичем Магницким (1669–1739 гг.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2"/>
          <a:stretch/>
        </p:blipFill>
        <p:spPr>
          <a:xfrm>
            <a:off x="7086600" y="5181480"/>
            <a:ext cx="1908000" cy="152568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3"/>
          <a:stretch/>
        </p:blipFill>
        <p:spPr>
          <a:xfrm>
            <a:off x="990720" y="5251320"/>
            <a:ext cx="2057400" cy="1606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3000"/>
                            </p:stCondLst>
                            <p:childTnLst>
                              <p:par>
                                <p:cTn id="9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4000"/>
                            </p:stCondLst>
                            <p:childTnLst>
                              <p:par>
                                <p:cTn id="11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0"/>
                            </p:stCondLst>
                            <p:childTnLst>
                              <p:par>
                                <p:cTn id="1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1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7000"/>
                            </p:stCondLst>
                            <p:childTnLst>
                              <p:par>
                                <p:cTn id="14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Прямые углы и треугольники в лесу и на лугу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990720" y="2133720"/>
            <a:ext cx="3085920" cy="411480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2"/>
          <a:stretch/>
        </p:blipFill>
        <p:spPr>
          <a:xfrm>
            <a:off x="5062680" y="2133720"/>
            <a:ext cx="2908080" cy="4038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img2" descr=""/>
          <p:cNvPicPr/>
          <p:nvPr/>
        </p:nvPicPr>
        <p:blipFill>
          <a:blip r:embed="rId1"/>
          <a:stretch/>
        </p:blipFill>
        <p:spPr>
          <a:xfrm rot="19799400">
            <a:off x="914040" y="1904760"/>
            <a:ext cx="3105000" cy="233208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 rot="2788200">
            <a:off x="4570200" y="1830240"/>
            <a:ext cx="3200400" cy="243540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3"/>
          <a:stretch/>
        </p:blipFill>
        <p:spPr>
          <a:xfrm rot="738600">
            <a:off x="837720" y="4038480"/>
            <a:ext cx="2971800" cy="2595600"/>
          </a:xfrm>
          <a:prstGeom prst="rect">
            <a:avLst/>
          </a:prstGeom>
          <a:ln w="0">
            <a:noFill/>
          </a:ln>
        </p:spPr>
      </p:pic>
      <p:pic>
        <p:nvPicPr>
          <p:cNvPr id="334" name="img3" descr=""/>
          <p:cNvPicPr/>
          <p:nvPr/>
        </p:nvPicPr>
        <p:blipFill>
          <a:blip r:embed="rId4"/>
          <a:stretch/>
        </p:blipFill>
        <p:spPr>
          <a:xfrm rot="677400">
            <a:off x="5262480" y="3973680"/>
            <a:ext cx="3505320" cy="263196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600" spc="-1" strike="noStrike">
                <a:solidFill>
                  <a:srgbClr val="ff3300"/>
                </a:solidFill>
                <a:latin typeface="Arial"/>
              </a:rPr>
              <a:t>Симметрия в природе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9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2000"/>
                            </p:stCondLst>
                            <p:childTnLst>
                              <p:par>
                                <p:cTn id="17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3000"/>
                            </p:stCondLst>
                            <p:childTnLst>
                              <p:par>
                                <p:cTn id="18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7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8T16:03:20Z</dcterms:created>
  <dc:creator>тима</dc:creator>
  <dc:description/>
  <dc:language>en-US</dc:language>
  <cp:lastModifiedBy>Ws_3</cp:lastModifiedBy>
  <dcterms:modified xsi:type="dcterms:W3CDTF">2011-03-23T13:25:37Z</dcterms:modified>
  <cp:revision>9</cp:revision>
  <dc:subject/>
  <dc:title>МАТЕМАТИКА ВОКРУГ НАС </dc:title>
</cp:coreProperties>
</file>