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37C2-220F-4FD2-B5F4-24F5DE50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FBE6-C3BC-420A-A7F7-BF7D3FB5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01A5-0BF1-4BE9-A56D-A79CD912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896F-FDC4-4AB7-AB6F-7A3478EB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FCC-9440-458C-B1B7-802C299D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5C2-9C11-478E-9998-55B4B0A5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B37-003D-4693-A74E-BE4185A0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AAE3-3511-4661-B81F-A7878B14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7EA8-DA7B-48A9-9607-875A9550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8C69-C501-462C-8F98-4A470145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ED2-5FFC-4002-ABD5-82AD638C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178-AD20-4254-9B33-DBBD318E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A4FA-9434-461A-8783-17A8DD3BD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крытый урок по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итературному чтению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клас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1280" y="285228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А.П.Гайдар «Чук и Гек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43280" y="1341000"/>
            <a:ext cx="3240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РКАДИЙ ПЕТРОВИЧ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АЙДАР (ГОЛИК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9280" y="4149360"/>
            <a:ext cx="85694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йдар-это не настоящая фамилия, 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уманная. Расшифровывается она так: «Г» - первая бук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тоящей фамилии Голиков, «А й» - первая и последняя букв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ни Аркадий, «Д» -по - французски «из», «Ар» - первые две букв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я родного города. Вот и получается Голиков Аркадий и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зама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43640" y="189000"/>
            <a:ext cx="2425680" cy="3600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286000" cy="3429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тские годы А.П.Гайда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2857320" cy="43434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3300480" cy="43102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айдар и Красная Арм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537000" cy="5229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ЕЦ,ПИСАТЕЛЬ,ГРАЖДАНИ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rot="620400">
            <a:off x="5940000" y="2060280"/>
            <a:ext cx="2602080" cy="381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348000" y="1341360"/>
            <a:ext cx="2305080" cy="3640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 rot="21150600">
            <a:off x="684000" y="2565360"/>
            <a:ext cx="240012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айдар шагает вперед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75440" cy="42800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04- 1941г.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4338720" cy="3198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3584520" cy="47768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УК и Г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334200" cy="48546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20:18:58Z</dcterms:created>
  <dc:creator>1</dc:creator>
  <dc:description/>
  <dc:language>en-US</dc:language>
  <cp:lastModifiedBy>Ws_3</cp:lastModifiedBy>
  <dcterms:modified xsi:type="dcterms:W3CDTF">2011-03-23T13:27:17Z</dcterms:modified>
  <cp:revision>9</cp:revision>
  <dc:subject/>
  <dc:title>Слайд 1</dc:title>
</cp:coreProperties>
</file>