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gif" ContentType="image/gif"/>
  <Override PartName="/ppt/media/image8.jpeg" ContentType="image/jpeg"/>
  <Override PartName="/ppt/media/image10.jpeg" ContentType="image/jpeg"/>
  <Override PartName="/ppt/media/wind.wav" ContentType="audio/x-wav"/>
  <Override PartName="/ppt/media/chimes.wav" ContentType="audio/x-wav"/>
  <Override PartName="/ppt/media/image16.png" ContentType="image/png"/>
  <Override PartName="/ppt/media/image11.png" ContentType="image/png"/>
  <Override PartName="/ppt/media/image18.gif" ContentType="image/gif"/>
  <Override PartName="/ppt/media/image15.jpeg" ContentType="image/jpeg"/>
  <Override PartName="/ppt/media/type.wav" ContentType="audio/x-wav"/>
  <Override PartName="/ppt/media/image17.png" ContentType="image/png"/>
  <Override PartName="/ppt/media/image4.jpeg" ContentType="image/jpeg"/>
  <Override PartName="/ppt/media/image14.png" ContentType="image/png"/>
  <Override PartName="/ppt/media/image13.png" ContentType="image/png"/>
  <Override PartName="/ppt/media/image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FF73-AC8F-4EA2-8B90-0CB6D03ED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E605-4B59-4746-AA63-14C0B8D1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9E49-DC42-4769-8294-D035C39A8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621B-BC41-4D39-8CBE-38ACBB916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6D09-38F2-416F-A1B8-F3DA0BE52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C1FF-98CC-4032-9808-25B99F12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461F-A8E9-4A66-818E-E36F8332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A57F-3C88-4B4B-997C-00934346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27C9-A308-4BE1-B553-BE3FC65B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BB4E-3E17-4BDE-A1B1-B3A8D0D4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2DBD-A9EB-4881-A046-847F4606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5C85-7EA0-4215-8D1E-D52E358A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EC15-06C9-4E2D-A7F9-73A034C7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0AA1-D682-4AF4-8902-188C8AD8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FEC6-AA68-401B-8907-BE7B544E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8071-4737-4CE4-BF7D-FEF6F3F87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6E50-9129-412B-9593-176DC8051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885D-AAE7-4A59-98FF-5C1F8E4D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DC8D-AC59-4380-8197-85B5DF69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CF99-AF1A-4F0D-982A-4E442CA2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3AA8-246D-46CD-9E00-B62903C3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5791-DEE1-4069-A00B-C2D5802A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077A-E86F-47E7-B733-CD87F107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3B17-6160-4177-AE0E-FC025C68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280" y="99720"/>
            <a:ext cx="1431000" cy="6644160"/>
            <a:chOff x="-8280" y="99720"/>
            <a:chExt cx="1431000" cy="6644160"/>
          </a:xfrm>
        </p:grpSpPr>
        <p:sp>
          <p:nvSpPr>
            <p:cNvPr id="1" name="Arc 3"/>
            <p:cNvSpPr/>
            <p:nvPr/>
          </p:nvSpPr>
          <p:spPr>
            <a:xfrm rot="2700000">
              <a:off x="550440" y="249120"/>
              <a:ext cx="722520" cy="7225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 rot="2700000">
              <a:off x="540000" y="259560"/>
              <a:ext cx="695520" cy="69048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 rot="2700000">
              <a:off x="537840" y="298080"/>
              <a:ext cx="650880" cy="63504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rc 6"/>
            <p:cNvSpPr/>
            <p:nvPr/>
          </p:nvSpPr>
          <p:spPr>
            <a:xfrm rot="2700000">
              <a:off x="530280" y="326520"/>
              <a:ext cx="572760" cy="56664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Arc 7"/>
            <p:cNvSpPr/>
            <p:nvPr/>
          </p:nvSpPr>
          <p:spPr>
            <a:xfrm rot="2700000">
              <a:off x="466920" y="427680"/>
              <a:ext cx="341280" cy="343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Arc 8"/>
            <p:cNvSpPr/>
            <p:nvPr/>
          </p:nvSpPr>
          <p:spPr>
            <a:xfrm rot="2700000">
              <a:off x="550440" y="1490760"/>
              <a:ext cx="722160" cy="7225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Arc 9"/>
            <p:cNvSpPr/>
            <p:nvPr/>
          </p:nvSpPr>
          <p:spPr>
            <a:xfrm rot="2700000">
              <a:off x="540720" y="1500840"/>
              <a:ext cx="695160" cy="69048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Arc 10"/>
            <p:cNvSpPr/>
            <p:nvPr/>
          </p:nvSpPr>
          <p:spPr>
            <a:xfrm rot="2700000">
              <a:off x="537840" y="1539360"/>
              <a:ext cx="650880" cy="63504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Arc 11"/>
            <p:cNvSpPr/>
            <p:nvPr/>
          </p:nvSpPr>
          <p:spPr>
            <a:xfrm rot="2700000">
              <a:off x="530280" y="1568520"/>
              <a:ext cx="573120" cy="56664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Arc 12"/>
            <p:cNvSpPr/>
            <p:nvPr/>
          </p:nvSpPr>
          <p:spPr>
            <a:xfrm rot="2700000">
              <a:off x="465480" y="1675440"/>
              <a:ext cx="341280" cy="343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Arc 13"/>
            <p:cNvSpPr/>
            <p:nvPr/>
          </p:nvSpPr>
          <p:spPr>
            <a:xfrm rot="2700000">
              <a:off x="550440" y="2741760"/>
              <a:ext cx="722160" cy="7225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Arc 14"/>
            <p:cNvSpPr/>
            <p:nvPr/>
          </p:nvSpPr>
          <p:spPr>
            <a:xfrm rot="2700000">
              <a:off x="550440" y="3997440"/>
              <a:ext cx="722160" cy="7225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Arc 15"/>
            <p:cNvSpPr/>
            <p:nvPr/>
          </p:nvSpPr>
          <p:spPr>
            <a:xfrm rot="2700000">
              <a:off x="540720" y="4007520"/>
              <a:ext cx="695160" cy="69048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Arc 16"/>
            <p:cNvSpPr/>
            <p:nvPr/>
          </p:nvSpPr>
          <p:spPr>
            <a:xfrm rot="2700000">
              <a:off x="537840" y="4046040"/>
              <a:ext cx="650880" cy="63504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Arc 17"/>
            <p:cNvSpPr/>
            <p:nvPr/>
          </p:nvSpPr>
          <p:spPr>
            <a:xfrm rot="2700000">
              <a:off x="530280" y="4075200"/>
              <a:ext cx="573120" cy="56664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Arc 18"/>
            <p:cNvSpPr/>
            <p:nvPr/>
          </p:nvSpPr>
          <p:spPr>
            <a:xfrm rot="2700000">
              <a:off x="465480" y="4177080"/>
              <a:ext cx="341280" cy="343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Arc 19"/>
            <p:cNvSpPr/>
            <p:nvPr/>
          </p:nvSpPr>
          <p:spPr>
            <a:xfrm rot="2700000">
              <a:off x="550440" y="5243400"/>
              <a:ext cx="722520" cy="7225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Arc 20"/>
            <p:cNvSpPr/>
            <p:nvPr/>
          </p:nvSpPr>
          <p:spPr>
            <a:xfrm rot="18900000">
              <a:off x="141120" y="877680"/>
              <a:ext cx="722520" cy="722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Arc 21"/>
            <p:cNvSpPr/>
            <p:nvPr/>
          </p:nvSpPr>
          <p:spPr>
            <a:xfrm rot="18900000">
              <a:off x="155520" y="888480"/>
              <a:ext cx="703440" cy="70200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Arc 22"/>
            <p:cNvSpPr/>
            <p:nvPr/>
          </p:nvSpPr>
          <p:spPr>
            <a:xfrm rot="18900000">
              <a:off x="220320" y="922320"/>
              <a:ext cx="657360" cy="64152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Arc 23"/>
            <p:cNvSpPr/>
            <p:nvPr/>
          </p:nvSpPr>
          <p:spPr>
            <a:xfrm rot="18900000">
              <a:off x="312840" y="955800"/>
              <a:ext cx="573120" cy="56988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Arc 24"/>
            <p:cNvSpPr/>
            <p:nvPr/>
          </p:nvSpPr>
          <p:spPr>
            <a:xfrm rot="18900000">
              <a:off x="617400" y="1066680"/>
              <a:ext cx="341280" cy="343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Arc 25"/>
            <p:cNvSpPr/>
            <p:nvPr/>
          </p:nvSpPr>
          <p:spPr>
            <a:xfrm rot="18900000">
              <a:off x="150840" y="2119320"/>
              <a:ext cx="722160" cy="722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Arc 26"/>
            <p:cNvSpPr/>
            <p:nvPr/>
          </p:nvSpPr>
          <p:spPr>
            <a:xfrm rot="18900000">
              <a:off x="165240" y="2130120"/>
              <a:ext cx="703080" cy="70164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Arc 27"/>
            <p:cNvSpPr/>
            <p:nvPr/>
          </p:nvSpPr>
          <p:spPr>
            <a:xfrm rot="18900000">
              <a:off x="229680" y="2163600"/>
              <a:ext cx="657360" cy="64152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Arc 28"/>
            <p:cNvSpPr/>
            <p:nvPr/>
          </p:nvSpPr>
          <p:spPr>
            <a:xfrm rot="18900000">
              <a:off x="317520" y="2197080"/>
              <a:ext cx="573120" cy="56988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Arc 29"/>
            <p:cNvSpPr/>
            <p:nvPr/>
          </p:nvSpPr>
          <p:spPr>
            <a:xfrm rot="18900000">
              <a:off x="617040" y="2308320"/>
              <a:ext cx="341280" cy="342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Arc 30"/>
            <p:cNvSpPr/>
            <p:nvPr/>
          </p:nvSpPr>
          <p:spPr>
            <a:xfrm rot="2700000">
              <a:off x="540720" y="2751840"/>
              <a:ext cx="695160" cy="69048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Arc 31"/>
            <p:cNvSpPr/>
            <p:nvPr/>
          </p:nvSpPr>
          <p:spPr>
            <a:xfrm rot="2700000">
              <a:off x="537840" y="2790360"/>
              <a:ext cx="650880" cy="63504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Arc 32"/>
            <p:cNvSpPr/>
            <p:nvPr/>
          </p:nvSpPr>
          <p:spPr>
            <a:xfrm rot="2700000">
              <a:off x="534960" y="2819520"/>
              <a:ext cx="573120" cy="56664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Arc 33"/>
            <p:cNvSpPr/>
            <p:nvPr/>
          </p:nvSpPr>
          <p:spPr>
            <a:xfrm rot="2700000">
              <a:off x="465480" y="2926440"/>
              <a:ext cx="341280" cy="343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Arc 34"/>
            <p:cNvSpPr/>
            <p:nvPr/>
          </p:nvSpPr>
          <p:spPr>
            <a:xfrm rot="18900000">
              <a:off x="155520" y="3369960"/>
              <a:ext cx="722520" cy="722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Arc 35"/>
            <p:cNvSpPr/>
            <p:nvPr/>
          </p:nvSpPr>
          <p:spPr>
            <a:xfrm rot="18900000">
              <a:off x="178920" y="3381120"/>
              <a:ext cx="703440" cy="70164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Arc 36"/>
            <p:cNvSpPr/>
            <p:nvPr/>
          </p:nvSpPr>
          <p:spPr>
            <a:xfrm rot="18900000">
              <a:off x="234720" y="3414240"/>
              <a:ext cx="657000" cy="64152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Arc 37"/>
            <p:cNvSpPr/>
            <p:nvPr/>
          </p:nvSpPr>
          <p:spPr>
            <a:xfrm rot="18900000">
              <a:off x="322200" y="3448080"/>
              <a:ext cx="573120" cy="56988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Arc 38"/>
            <p:cNvSpPr/>
            <p:nvPr/>
          </p:nvSpPr>
          <p:spPr>
            <a:xfrm rot="18900000">
              <a:off x="622080" y="3559320"/>
              <a:ext cx="341280" cy="342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Arc 39"/>
            <p:cNvSpPr/>
            <p:nvPr/>
          </p:nvSpPr>
          <p:spPr>
            <a:xfrm rot="18900000">
              <a:off x="150840" y="4626000"/>
              <a:ext cx="722160" cy="722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Arc 40"/>
            <p:cNvSpPr/>
            <p:nvPr/>
          </p:nvSpPr>
          <p:spPr>
            <a:xfrm rot="18900000">
              <a:off x="165240" y="4636800"/>
              <a:ext cx="703080" cy="70164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Arc 41"/>
            <p:cNvSpPr/>
            <p:nvPr/>
          </p:nvSpPr>
          <p:spPr>
            <a:xfrm rot="18900000">
              <a:off x="229680" y="4670280"/>
              <a:ext cx="657360" cy="64152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Arc 42"/>
            <p:cNvSpPr/>
            <p:nvPr/>
          </p:nvSpPr>
          <p:spPr>
            <a:xfrm rot="18900000">
              <a:off x="322200" y="4703760"/>
              <a:ext cx="573120" cy="56988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Arc 43"/>
            <p:cNvSpPr/>
            <p:nvPr/>
          </p:nvSpPr>
          <p:spPr>
            <a:xfrm rot="18900000">
              <a:off x="617040" y="4815000"/>
              <a:ext cx="341280" cy="342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Arc 44"/>
            <p:cNvSpPr/>
            <p:nvPr/>
          </p:nvSpPr>
          <p:spPr>
            <a:xfrm rot="2700000">
              <a:off x="540000" y="5253840"/>
              <a:ext cx="695520" cy="69048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Arc 45"/>
            <p:cNvSpPr/>
            <p:nvPr/>
          </p:nvSpPr>
          <p:spPr>
            <a:xfrm rot="2700000">
              <a:off x="537840" y="5292360"/>
              <a:ext cx="650880" cy="63504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Arc 46"/>
            <p:cNvSpPr/>
            <p:nvPr/>
          </p:nvSpPr>
          <p:spPr>
            <a:xfrm rot="2700000">
              <a:off x="530280" y="5320800"/>
              <a:ext cx="572760" cy="56664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Arc 47"/>
            <p:cNvSpPr/>
            <p:nvPr/>
          </p:nvSpPr>
          <p:spPr>
            <a:xfrm rot="2700000">
              <a:off x="465480" y="5428080"/>
              <a:ext cx="341280" cy="343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Arc 48"/>
            <p:cNvSpPr/>
            <p:nvPr/>
          </p:nvSpPr>
          <p:spPr>
            <a:xfrm rot="18900000">
              <a:off x="150840" y="5872320"/>
              <a:ext cx="722160" cy="722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Arc 49"/>
            <p:cNvSpPr/>
            <p:nvPr/>
          </p:nvSpPr>
          <p:spPr>
            <a:xfrm rot="18900000">
              <a:off x="164880" y="5882760"/>
              <a:ext cx="703080" cy="70200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50"/>
            <p:cNvSpPr/>
            <p:nvPr/>
          </p:nvSpPr>
          <p:spPr>
            <a:xfrm rot="18900000">
              <a:off x="229680" y="5916600"/>
              <a:ext cx="657360" cy="64152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1"/>
            <p:cNvSpPr/>
            <p:nvPr/>
          </p:nvSpPr>
          <p:spPr>
            <a:xfrm rot="18900000">
              <a:off x="317520" y="5950080"/>
              <a:ext cx="573120" cy="56988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rc 52"/>
            <p:cNvSpPr/>
            <p:nvPr/>
          </p:nvSpPr>
          <p:spPr>
            <a:xfrm rot="18900000">
              <a:off x="617400" y="6060960"/>
              <a:ext cx="341280" cy="343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9887-BF76-4B61-8CA4-5305A70E2A5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1054080" y="-1427040"/>
            <a:ext cx="7039440" cy="7203960"/>
            <a:chOff x="1054080" y="-1427040"/>
            <a:chExt cx="7039440" cy="7203960"/>
          </a:xfrm>
        </p:grpSpPr>
        <p:sp>
          <p:nvSpPr>
            <p:cNvPr id="93" name="Arc 3"/>
            <p:cNvSpPr/>
            <p:nvPr/>
          </p:nvSpPr>
          <p:spPr>
            <a:xfrm rot="18900000">
              <a:off x="2084400" y="-395280"/>
              <a:ext cx="4978440" cy="4976640"/>
            </a:xfrm>
            <a:custGeom>
              <a:avLst/>
              <a:gdLst/>
              <a:ahLst/>
              <a:rect l="l" t="t" r="r" b="b"/>
              <a:pathLst>
                <a:path fill="none" w="21607" h="21600">
                  <a:moveTo>
                    <a:pt x="0" y="0"/>
                  </a:moveTo>
                  <a:cubicBezTo>
                    <a:pt x="2" y="0"/>
                    <a:pt x="4" y="-1"/>
                    <a:pt x="7" y="0"/>
                  </a:cubicBezTo>
                  <a:cubicBezTo>
                    <a:pt x="11933" y="0"/>
                    <a:pt x="21603" y="9666"/>
                    <a:pt x="21606" y="21593"/>
                  </a:cubicBezTo>
                </a:path>
                <a:path stroke="0" w="21607" h="21600">
                  <a:moveTo>
                    <a:pt x="0" y="0"/>
                  </a:moveTo>
                  <a:cubicBezTo>
                    <a:pt x="2" y="0"/>
                    <a:pt x="4" y="-1"/>
                    <a:pt x="7" y="0"/>
                  </a:cubicBezTo>
                  <a:cubicBezTo>
                    <a:pt x="11933" y="0"/>
                    <a:pt x="21603" y="9666"/>
                    <a:pt x="21606" y="21593"/>
                  </a:cubicBezTo>
                  <a:lnTo>
                    <a:pt x="7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Arc 4"/>
            <p:cNvSpPr/>
            <p:nvPr/>
          </p:nvSpPr>
          <p:spPr>
            <a:xfrm rot="18900000">
              <a:off x="2141640" y="-257040"/>
              <a:ext cx="4821120" cy="4851360"/>
            </a:xfrm>
            <a:custGeom>
              <a:avLst/>
              <a:gdLst/>
              <a:ahLst/>
              <a:rect l="l" t="t" r="r" b="b"/>
              <a:pathLst>
                <a:path fill="none" w="20922" h="21053">
                  <a:moveTo>
                    <a:pt x="4830" y="0"/>
                  </a:moveTo>
                  <a:cubicBezTo>
                    <a:pt x="12706" y="1807"/>
                    <a:pt x="18914" y="7858"/>
                    <a:pt x="20922" y="15684"/>
                  </a:cubicBezTo>
                </a:path>
                <a:path stroke="0" w="20922" h="21053">
                  <a:moveTo>
                    <a:pt x="4830" y="0"/>
                  </a:moveTo>
                  <a:cubicBezTo>
                    <a:pt x="12706" y="1807"/>
                    <a:pt x="18914" y="7858"/>
                    <a:pt x="20922" y="15684"/>
                  </a:cubicBezTo>
                  <a:lnTo>
                    <a:pt x="0" y="21053"/>
                  </a:lnTo>
                  <a:lnTo>
                    <a:pt x="4830" y="0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Arc 5"/>
            <p:cNvSpPr/>
            <p:nvPr/>
          </p:nvSpPr>
          <p:spPr>
            <a:xfrm rot="18900000">
              <a:off x="2339640" y="256680"/>
              <a:ext cx="4368600" cy="4432320"/>
            </a:xfrm>
            <a:custGeom>
              <a:avLst/>
              <a:gdLst/>
              <a:ahLst/>
              <a:rect l="l" t="t" r="r" b="b"/>
              <a:pathLst>
                <a:path fill="none" w="18966" h="19239">
                  <a:moveTo>
                    <a:pt x="9819" y="-1"/>
                  </a:moveTo>
                  <a:cubicBezTo>
                    <a:pt x="13695" y="1978"/>
                    <a:pt x="16883" y="5080"/>
                    <a:pt x="18965" y="8902"/>
                  </a:cubicBezTo>
                </a:path>
                <a:path stroke="0" w="18966" h="19239">
                  <a:moveTo>
                    <a:pt x="9819" y="-1"/>
                  </a:moveTo>
                  <a:cubicBezTo>
                    <a:pt x="13695" y="1978"/>
                    <a:pt x="16883" y="5080"/>
                    <a:pt x="18965" y="8902"/>
                  </a:cubicBezTo>
                  <a:lnTo>
                    <a:pt x="0" y="19239"/>
                  </a:lnTo>
                  <a:lnTo>
                    <a:pt x="9819" y="-1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Arc 6"/>
            <p:cNvSpPr/>
            <p:nvPr/>
          </p:nvSpPr>
          <p:spPr>
            <a:xfrm rot="18900000">
              <a:off x="2663640" y="809280"/>
              <a:ext cx="3860640" cy="3965400"/>
            </a:xfrm>
            <a:custGeom>
              <a:avLst/>
              <a:gdLst/>
              <a:ahLst/>
              <a:rect l="l" t="t" r="r" b="b"/>
              <a:pathLst>
                <a:path fill="none" w="16754" h="17212">
                  <a:moveTo>
                    <a:pt x="13050" y="-1"/>
                  </a:moveTo>
                  <a:cubicBezTo>
                    <a:pt x="14423" y="1040"/>
                    <a:pt x="15666" y="2242"/>
                    <a:pt x="16754" y="3578"/>
                  </a:cubicBezTo>
                </a:path>
                <a:path stroke="0" w="16754" h="17212">
                  <a:moveTo>
                    <a:pt x="13050" y="-1"/>
                  </a:moveTo>
                  <a:cubicBezTo>
                    <a:pt x="14423" y="1040"/>
                    <a:pt x="15666" y="2242"/>
                    <a:pt x="16754" y="3578"/>
                  </a:cubicBezTo>
                  <a:lnTo>
                    <a:pt x="0" y="17212"/>
                  </a:lnTo>
                  <a:lnTo>
                    <a:pt x="13050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Arc 7"/>
            <p:cNvSpPr/>
            <p:nvPr/>
          </p:nvSpPr>
          <p:spPr>
            <a:xfrm rot="18900000">
              <a:off x="2295360" y="90000"/>
              <a:ext cx="4604040" cy="46040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Arc 8"/>
            <p:cNvSpPr/>
            <p:nvPr/>
          </p:nvSpPr>
          <p:spPr>
            <a:xfrm rot="18900000">
              <a:off x="2346480" y="217080"/>
              <a:ext cx="4458960" cy="4486320"/>
            </a:xfrm>
            <a:custGeom>
              <a:avLst/>
              <a:gdLst/>
              <a:ahLst/>
              <a:rect l="l" t="t" r="r" b="b"/>
              <a:pathLst>
                <a:path fill="none" w="20924" h="21052">
                  <a:moveTo>
                    <a:pt x="4833" y="-1"/>
                  </a:moveTo>
                  <a:cubicBezTo>
                    <a:pt x="12709" y="1807"/>
                    <a:pt x="18917" y="7861"/>
                    <a:pt x="20923" y="15689"/>
                  </a:cubicBezTo>
                </a:path>
                <a:path stroke="0" w="20924" h="21052">
                  <a:moveTo>
                    <a:pt x="4833" y="-1"/>
                  </a:moveTo>
                  <a:cubicBezTo>
                    <a:pt x="12709" y="1807"/>
                    <a:pt x="18917" y="7861"/>
                    <a:pt x="20923" y="15689"/>
                  </a:cubicBezTo>
                  <a:lnTo>
                    <a:pt x="0" y="21052"/>
                  </a:lnTo>
                  <a:lnTo>
                    <a:pt x="4833" y="-1"/>
                  </a:lnTo>
                  <a:close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Arc 9"/>
            <p:cNvSpPr/>
            <p:nvPr/>
          </p:nvSpPr>
          <p:spPr>
            <a:xfrm rot="18900000">
              <a:off x="2552760" y="677520"/>
              <a:ext cx="4043160" cy="4100400"/>
            </a:xfrm>
            <a:custGeom>
              <a:avLst/>
              <a:gdLst/>
              <a:ahLst/>
              <a:rect l="l" t="t" r="r" b="b"/>
              <a:pathLst>
                <a:path fill="none" w="18970" h="19237">
                  <a:moveTo>
                    <a:pt x="9823" y="-1"/>
                  </a:moveTo>
                  <a:cubicBezTo>
                    <a:pt x="13699" y="1979"/>
                    <a:pt x="16888" y="5084"/>
                    <a:pt x="18969" y="8907"/>
                  </a:cubicBezTo>
                </a:path>
                <a:path stroke="0" w="18970" h="19237">
                  <a:moveTo>
                    <a:pt x="9823" y="-1"/>
                  </a:moveTo>
                  <a:cubicBezTo>
                    <a:pt x="13699" y="1979"/>
                    <a:pt x="16888" y="5084"/>
                    <a:pt x="18969" y="8907"/>
                  </a:cubicBezTo>
                  <a:lnTo>
                    <a:pt x="0" y="19237"/>
                  </a:lnTo>
                  <a:lnTo>
                    <a:pt x="9823" y="-1"/>
                  </a:ln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Arc 10"/>
            <p:cNvSpPr/>
            <p:nvPr/>
          </p:nvSpPr>
          <p:spPr>
            <a:xfrm rot="18900000">
              <a:off x="2830320" y="1188720"/>
              <a:ext cx="3570120" cy="3668760"/>
            </a:xfrm>
            <a:custGeom>
              <a:avLst/>
              <a:gdLst/>
              <a:ahLst/>
              <a:rect l="l" t="t" r="r" b="b"/>
              <a:pathLst>
                <a:path fill="none" w="16754" h="17213">
                  <a:moveTo>
                    <a:pt x="13048" y="0"/>
                  </a:moveTo>
                  <a:cubicBezTo>
                    <a:pt x="14422" y="1041"/>
                    <a:pt x="15666" y="2243"/>
                    <a:pt x="16754" y="3579"/>
                  </a:cubicBezTo>
                </a:path>
                <a:path stroke="0" w="16754" h="17213">
                  <a:moveTo>
                    <a:pt x="13048" y="0"/>
                  </a:moveTo>
                  <a:cubicBezTo>
                    <a:pt x="14422" y="1041"/>
                    <a:pt x="15666" y="2243"/>
                    <a:pt x="16754" y="3579"/>
                  </a:cubicBezTo>
                  <a:lnTo>
                    <a:pt x="0" y="17213"/>
                  </a:lnTo>
                  <a:lnTo>
                    <a:pt x="13048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Arc 11"/>
            <p:cNvSpPr/>
            <p:nvPr/>
          </p:nvSpPr>
          <p:spPr>
            <a:xfrm rot="18900000">
              <a:off x="3553920" y="3316320"/>
              <a:ext cx="2038320" cy="20383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E539-89DD-42CC-855A-41C7EEF3BCD6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Страны Древнего Востока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857160" y="4906440"/>
            <a:ext cx="74296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Урок – игра для 5 класс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5" name="fanfar2.mp3" descr=""/>
          <p:cNvPicPr/>
          <p:nvPr/>
        </p:nvPicPr>
        <p:blipFill>
          <a:blip r:embed="rId1"/>
          <a:stretch/>
        </p:blipFill>
        <p:spPr>
          <a:xfrm>
            <a:off x="8572680" y="6448320"/>
            <a:ext cx="142560" cy="142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D:\НЕДЕЛИ\НЕделя 2012\Древний Восток\0d6874dd3797.jpg"/>
          <p:cNvPicPr/>
          <p:nvPr/>
        </p:nvPicPr>
        <p:blipFill>
          <a:blip r:embed="rId2"/>
          <a:stretch/>
        </p:blipFill>
        <p:spPr>
          <a:xfrm>
            <a:off x="0" y="0"/>
            <a:ext cx="1440000" cy="1782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D:\НЕДЕЛИ\НЕделя 2012\Древний Восток\1103.jpg"/>
          <p:cNvPicPr/>
          <p:nvPr/>
        </p:nvPicPr>
        <p:blipFill>
          <a:blip r:embed="rId3"/>
          <a:stretch/>
        </p:blipFill>
        <p:spPr>
          <a:xfrm>
            <a:off x="1440000" y="0"/>
            <a:ext cx="1215720" cy="1782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D:\НЕДЕЛИ\НЕделя 2012\Древний Восток\brahma-0.jpg"/>
          <p:cNvPicPr/>
          <p:nvPr/>
        </p:nvPicPr>
        <p:blipFill>
          <a:blip r:embed="rId4"/>
          <a:stretch/>
        </p:blipFill>
        <p:spPr>
          <a:xfrm>
            <a:off x="2655720" y="0"/>
            <a:ext cx="1484640" cy="1771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D:\НЕДЕЛИ\НЕделя 2012\Древний Восток\ehnaton.jpg"/>
          <p:cNvPicPr/>
          <p:nvPr/>
        </p:nvPicPr>
        <p:blipFill>
          <a:blip r:embed="rId5"/>
          <a:stretch/>
        </p:blipFill>
        <p:spPr>
          <a:xfrm>
            <a:off x="4094280" y="0"/>
            <a:ext cx="1182600" cy="1816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D:\НЕДЕЛИ\НЕделя 2012\Древний Восток\70276215_1296947467_1254564265_pro.jpg"/>
          <p:cNvPicPr/>
          <p:nvPr/>
        </p:nvPicPr>
        <p:blipFill>
          <a:blip r:embed="rId6"/>
          <a:stretch/>
        </p:blipFill>
        <p:spPr>
          <a:xfrm>
            <a:off x="5276880" y="31680"/>
            <a:ext cx="1311120" cy="1776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D:\НЕДЕЛИ\НЕделя 2012\Древний Восток\qinshih.jpg"/>
          <p:cNvPicPr/>
          <p:nvPr/>
        </p:nvPicPr>
        <p:blipFill>
          <a:blip r:embed="rId7"/>
          <a:stretch/>
        </p:blipFill>
        <p:spPr>
          <a:xfrm>
            <a:off x="6588000" y="31680"/>
            <a:ext cx="1374840" cy="1739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D:\НЕДЕЛИ\НЕделя 2012\Древний Восток\confucius2.jpg"/>
          <p:cNvPicPr/>
          <p:nvPr/>
        </p:nvPicPr>
        <p:blipFill>
          <a:blip r:embed="rId8"/>
          <a:stretch/>
        </p:blipFill>
        <p:spPr>
          <a:xfrm>
            <a:off x="7962840" y="0"/>
            <a:ext cx="1206720" cy="178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i11"/>
          <p:cNvPicPr/>
          <p:nvPr/>
        </p:nvPicPr>
        <p:blipFill>
          <a:blip r:embed="rId9"/>
          <a:stretch/>
        </p:blipFill>
        <p:spPr>
          <a:xfrm>
            <a:off x="3713040" y="2276640"/>
            <a:ext cx="194472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7998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8">
                                  <p:stCondLst>
                                    <p:cond delay="1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6" presetSubtype="32">
                                  <p:stCondLst>
                                    <p:cond delay="25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6" presetSubtype="32">
                                  <p:stCondLst>
                                    <p:cond delay="26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6" presetSubtype="32">
                                  <p:stCondLst>
                                    <p:cond delay="27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6" presetSubtype="32">
                                  <p:stCondLst>
                                    <p:cond delay="28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6" presetSubtype="32">
                                  <p:stCondLst>
                                    <p:cond delay="29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6" presetSubtype="32">
                                  <p:stCondLst>
                                    <p:cond delay="30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6" presetSubtype="32">
                                  <p:stCondLst>
                                    <p:cond delay="3100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5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33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c00"/>
                </a:solidFill>
                <a:latin typeface="Times New Roman"/>
              </a:rPr>
              <a:t>Хаммурапи жил в Междуречье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76" name="Picture 2" descr="D:\НЕДЕЛИ\НЕделя 2012\Древний Восток\hammurapi.jpg"/>
          <p:cNvPicPr/>
          <p:nvPr/>
        </p:nvPicPr>
        <p:blipFill>
          <a:blip r:embed="rId1"/>
          <a:stretch/>
        </p:blipFill>
        <p:spPr>
          <a:xfrm>
            <a:off x="1189080" y="1852560"/>
            <a:ext cx="3382920" cy="46036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D:\НЕДЕЛИ\НЕделя 2012\Древний Восток\babylon02.gif"/>
          <p:cNvPicPr/>
          <p:nvPr/>
        </p:nvPicPr>
        <p:blipFill>
          <a:blip r:embed="rId2"/>
          <a:stretch/>
        </p:blipFill>
        <p:spPr>
          <a:xfrm>
            <a:off x="4859280" y="3573360"/>
            <a:ext cx="4114800" cy="3133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chimes.wav"/>
      </p:stSnd>
    </p:sndAc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356760"/>
            <a:ext cx="705816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Конкурс капитанов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Капитаны команд получают у учителя задания и на 5 минут покидают класс для подготовки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Максимальный балл – 3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0" name="gong - копия.mp3" descr=""/>
          <p:cNvPicPr/>
          <p:nvPr/>
        </p:nvPicPr>
        <p:blipFill>
          <a:blip r:embed="rId2"/>
          <a:stretch/>
        </p:blipFill>
        <p:spPr>
          <a:xfrm>
            <a:off x="-900000" y="6093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" dur="2424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356760"/>
            <a:ext cx="705816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Конкурс кроссвордов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ока капитаны готовятся, команды должны за 5 минут заполнить кроссворд, подготовленный соперниками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За каждое угаданное слово –  0,5 балла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356760"/>
            <a:ext cx="705816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Конкурс капитанов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Жрец доказывает необходимость подношений богам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Брахман доказывает необходимость существования каст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Фараон доказывает необходимость сооружения пирамид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push dir="u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356760"/>
            <a:ext cx="705816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Путешествие по карте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Необходимо отгадать страну по описанию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оказать эту страну на карте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олный ответ оценивается в 2 балла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push dir="u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356760"/>
            <a:ext cx="705816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Путешествие по карте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Узкая полоска земли вдоль моря, ограниченная с востока горами. Больших рек нет, осадков выпадает мало. Земель не хватает, чтобы только сельским хозяйством прокормить всё население страны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600" y="356760"/>
            <a:ext cx="705816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Путешествие по карте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Эта страна располагается на огромной равнине, по которой с запада на восток текут могучие и спокойные реки. Почвы по берегам рек очень плодородны, они легко смываются во время наводнений. От этого вода одной из рек окрашивается в необычный цвет.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356760"/>
            <a:ext cx="705816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Путешествие по карте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Значительную часть страны занимают горы, богатые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железом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. Почва довольно плодородна, но хороших земель недостаточно. Реки бурные, берега их круты. Население очень воинственно и занималось охотой и скотоводством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3" name="gong - копия.mp3" descr=""/>
          <p:cNvPicPr/>
          <p:nvPr/>
        </p:nvPicPr>
        <p:blipFill>
          <a:blip r:embed="rId2"/>
          <a:stretch/>
        </p:blipFill>
        <p:spPr>
          <a:xfrm>
            <a:off x="-828720" y="57326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2424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600" y="356760"/>
            <a:ext cx="705816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Придворные сказители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Один человек от команды (не капитан) должен получить задание у учителя и, выйдя из класса, подготовить задание за 5 минут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Максимальный балл – 3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6" name="gong - копия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2" dur="2424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600" y="356760"/>
            <a:ext cx="705816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Блиц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Напишите за 3 минуты как можно больше достижений народов Древнего Востока, которыми мы пользуемся до сих пор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обедившая в конкурсе команда получит дополнительно 2 балла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9" name="gong - копия.mp3" descr=""/>
          <p:cNvPicPr/>
          <p:nvPr/>
        </p:nvPicPr>
        <p:blipFill>
          <a:blip r:embed="rId2"/>
          <a:stretch/>
        </p:blipFill>
        <p:spPr>
          <a:xfrm>
            <a:off x="-614520" y="55897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8" dur="2424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356760"/>
            <a:ext cx="705816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Словарный бег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Командам поочерёдно задаются вопросы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На обдумывание даётся 10 секунд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Отвечает один человек от команды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За правильный ответ – 1 балл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6" name="gong - копия.mp3" descr=""/>
          <p:cNvPicPr/>
          <p:nvPr/>
        </p:nvPicPr>
        <p:blipFill>
          <a:blip r:embed="rId2"/>
          <a:stretch/>
        </p:blipFill>
        <p:spPr>
          <a:xfrm>
            <a:off x="-828720" y="6021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2424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3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56760"/>
            <a:ext cx="705816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Придворные сказители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осхваление мудрости правителя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рославление силы и ловкости правителя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ревознесение щедрости и доброты правителя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Фанфары Cordis.wma" descr=""/>
          <p:cNvPicPr/>
          <p:nvPr/>
        </p:nvPicPr>
        <p:blipFill>
          <a:blip r:embed="rId1"/>
          <a:stretch/>
        </p:blipFill>
        <p:spPr>
          <a:xfrm>
            <a:off x="8643960" y="6429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9f099f"/>
              </a:gs>
              <a:gs pos="100000">
                <a:srgbClr val="ff19ff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Подведение итогов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Почётное 3 место заняла команда…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Серебряным призёром стала команда…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20ff"/>
                </a:solidFill>
                <a:latin typeface="Times New Roman"/>
              </a:rPr>
              <a:t>Победителем нашей игры объявляется команда…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5" name="tush1.mp3" descr=""/>
          <p:cNvPicPr/>
          <p:nvPr/>
        </p:nvPicPr>
        <p:blipFill>
          <a:blip r:embed="rId2"/>
          <a:stretch/>
        </p:blipFill>
        <p:spPr>
          <a:xfrm>
            <a:off x="8358120" y="6357960"/>
            <a:ext cx="162000" cy="1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6" dur="22699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9" dur="22577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252080" y="1981080"/>
            <a:ext cx="68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20ff"/>
                </a:solidFill>
                <a:latin typeface="Times New Roman"/>
              </a:rPr>
              <a:t>Всем командам огромная благодарность за проявленные знания и сообразительность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8" name="Бой часов.mp3" descr=""/>
          <p:cNvPicPr/>
          <p:nvPr/>
        </p:nvPicPr>
        <p:blipFill>
          <a:blip r:embed="rId1"/>
          <a:stretch/>
        </p:blipFill>
        <p:spPr>
          <a:xfrm>
            <a:off x="8072280" y="64292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8" descr="BIG_Cat10"/>
          <p:cNvPicPr/>
          <p:nvPr/>
        </p:nvPicPr>
        <p:blipFill>
          <a:blip r:embed="rId2"/>
          <a:stretch/>
        </p:blipFill>
        <p:spPr>
          <a:xfrm>
            <a:off x="1419120" y="3495600"/>
            <a:ext cx="207324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64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64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4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4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600" fill="hold">
                                          <p:stCondLst>
                                            <p:cond delay="64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00" fill="hold">
                                          <p:stCondLst>
                                            <p:cond delay="64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3" dur="58150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56760"/>
            <a:ext cx="705816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Атака веером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Учащиеся из противоборствующих команд задают вопросы друг другу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Отвечает только один человек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За правильный ответ – 1 балл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9" name="gong - копия.mp3" descr=""/>
          <p:cNvPicPr/>
          <p:nvPr/>
        </p:nvPicPr>
        <p:blipFill>
          <a:blip r:embed="rId2"/>
          <a:stretch/>
        </p:blipFill>
        <p:spPr>
          <a:xfrm>
            <a:off x="-757080" y="5877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2424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356760"/>
            <a:ext cx="705816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Кто эти люди?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3716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рослушайте высказывание исторического деятеля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Назовите его имя и страну, в которой он жил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За полный ответ – 2 балла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2" name="gong - копия.mp3" descr=""/>
          <p:cNvPicPr/>
          <p:nvPr/>
        </p:nvPicPr>
        <p:blipFill>
          <a:blip r:embed="rId2"/>
          <a:stretch/>
        </p:blipFill>
        <p:spPr>
          <a:xfrm>
            <a:off x="-828720" y="59500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2424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356760"/>
            <a:ext cx="705816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Кто эти люди?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25892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«Богатство – это то, чего люди жаждут. Но, если оно досталось мне не заслуженно, я не буду им пользоваться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Бедность – то, что страшит людей. Но, если она постигла меня не заслуженно, я не буду её стыдиться. Так думает человек благородного образа мыслей»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2" name="wind.wav"/>
      </p:stSnd>
    </p:sndAc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4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c00"/>
                </a:solidFill>
                <a:latin typeface="Times New Roman"/>
              </a:rPr>
              <a:t>Конфуций жил в Китае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6" name="Picture 2" descr="D:\НЕДЕЛИ\НЕделя 2012\Древний Восток\Confucius%202.gif"/>
          <p:cNvPicPr/>
          <p:nvPr/>
        </p:nvPicPr>
        <p:blipFill>
          <a:blip r:embed="rId1"/>
          <a:stretch/>
        </p:blipFill>
        <p:spPr>
          <a:xfrm>
            <a:off x="971640" y="2970360"/>
            <a:ext cx="3609720" cy="3887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D:\НЕДЕЛИ\НЕделя 2012\Древний Восток\map_of_china.gif"/>
          <p:cNvPicPr/>
          <p:nvPr/>
        </p:nvPicPr>
        <p:blipFill>
          <a:blip r:embed="rId2"/>
          <a:stretch/>
        </p:blipFill>
        <p:spPr>
          <a:xfrm>
            <a:off x="3348000" y="1197000"/>
            <a:ext cx="5591160" cy="4753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chimes.wav"/>
      </p:stSnd>
    </p:sndAc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356760"/>
            <a:ext cx="705816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Кто эти люди?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428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«Всякая жизнь сопровождается страданиями, но можно улучшить свою участь, если всегда говорить правду, стремиться к добру, не брать чужого и ни к кому не чувствовать злобы и зависти. Человек должен освободиться от суеты, от бесконечных желаний всё новых богатств и удовольствий. Тогда он спасётся и не будет вновь и вновь рождаться на этой земле»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2" name="wind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3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7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c00"/>
                </a:solidFill>
                <a:latin typeface="Times New Roman"/>
              </a:rPr>
              <a:t>Будда жил в Индии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71" name="Picture 2" descr="D:\НЕДЕЛИ\НЕделя 2012\Древний Восток\History_5_22.gif"/>
          <p:cNvPicPr/>
          <p:nvPr/>
        </p:nvPicPr>
        <p:blipFill>
          <a:blip r:embed="rId1"/>
          <a:stretch/>
        </p:blipFill>
        <p:spPr>
          <a:xfrm>
            <a:off x="5580000" y="1484280"/>
            <a:ext cx="3240000" cy="4748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D:\НЕДЕЛИ\НЕделя 2012\Древний Восток\171365.jpg"/>
          <p:cNvPicPr/>
          <p:nvPr/>
        </p:nvPicPr>
        <p:blipFill>
          <a:blip r:embed="rId2"/>
          <a:stretch/>
        </p:blipFill>
        <p:spPr>
          <a:xfrm>
            <a:off x="395280" y="2349360"/>
            <a:ext cx="4978440" cy="3108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chimes.wav"/>
      </p:stSnd>
    </p:sndAc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356760"/>
            <a:ext cx="7058160" cy="1143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Кто эти люди?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«Если человек украл имущество храма, он должен быть казнён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Если человек украл осла, овцу или раба, он должен быть казнён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Если человек ударил отца, ему следует отрубить руку»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2" name="wind.wav"/>
      </p:stSnd>
    </p:sndAc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9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9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0:49:57Z</dcterms:created>
  <dc:creator>РМУ10</dc:creator>
  <dc:description/>
  <cp:keywords/>
  <dc:language>en-US</dc:language>
  <cp:lastModifiedBy>1</cp:lastModifiedBy>
  <dcterms:modified xsi:type="dcterms:W3CDTF">2012-01-26T19:19:20Z</dcterms:modified>
  <cp:revision>3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191049</vt:lpwstr>
  </property>
</Properties>
</file>