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12.png" ContentType="image/png"/>
  <Override PartName="/ppt/media/image47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AEF-30C9-4515-9F87-65D66D19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867-BF11-43CE-8278-6EE9D65D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74E-0927-4E21-B4D1-E8974C45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72F-6FB2-48B2-9CFB-814AFEE8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EAB-4C27-4BDA-BDC5-5720ACDB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930-E13E-4AF4-B2AB-00A23459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51A-812D-4547-8F9D-633AE69A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CA3-BC73-4E1F-AA58-073D4552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A45-470C-46EC-A329-ADFEDC2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7C4-C664-450E-8B27-192E799E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AF7-5D38-4277-9FD3-21541C9E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8CE-B8EE-4D49-A6A3-378806E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A714-BA66-4005-BF52-A95D619B3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717480"/>
            <a:ext cx="7632720" cy="379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7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412c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лабое звено"</a:t>
            </a:r>
            <a:endParaRPr b="1" lang="en-US" sz="1800" spc="1" strike="noStrike">
              <a:ln w="15840">
                <a:solidFill>
                  <a:srgbClr val="412c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549360"/>
            <a:ext cx="864216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ffffe7"/>
                    </a:gs>
                    <a:gs pos="50000">
                      <a:srgbClr val="ffffff"/>
                    </a:gs>
                    <a:gs pos="100000">
                      <a:srgbClr val="ffffe7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а</a:t>
            </a:r>
            <a:endParaRPr b="0" lang="en-US" sz="18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e7"/>
                  </a:gs>
                  <a:gs pos="50000">
                    <a:srgbClr val="ffffff"/>
                  </a:gs>
                  <a:gs pos="100000">
                    <a:srgbClr val="ffffe7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e7"/>
                  </a:gs>
                  <a:gs pos="50000">
                    <a:srgbClr val="ffffff"/>
                  </a:gs>
                  <a:gs pos="100000">
                    <a:srgbClr val="ffffe7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e7"/>
                  </a:gs>
                  <a:gs pos="50000">
                    <a:srgbClr val="ffffff"/>
                  </a:gs>
                  <a:gs pos="100000">
                    <a:srgbClr val="ffffe7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e7"/>
                  </a:gs>
                  <a:gs pos="50000">
                    <a:srgbClr val="ffffff"/>
                  </a:gs>
                  <a:gs pos="100000">
                    <a:srgbClr val="ffffe7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ffffe7"/>
                    </a:gs>
                    <a:gs pos="50000">
                      <a:srgbClr val="ffffff"/>
                    </a:gs>
                    <a:gs pos="100000">
                      <a:srgbClr val="ffffe7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ля учащихся 8 класса</a:t>
            </a:r>
            <a:endParaRPr b="0" lang="en-US" sz="18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e7"/>
                  </a:gs>
                  <a:gs pos="50000">
                    <a:srgbClr val="ffffff"/>
                  </a:gs>
                  <a:gs pos="100000">
                    <a:srgbClr val="ffffe7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300720" y="419040"/>
            <a:ext cx="22320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80000" y="5038560"/>
            <a:ext cx="3240000" cy="1455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700280"/>
            <a:ext cx="8136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Вы пока самое слабое звен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Прощайт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3573360"/>
            <a:ext cx="7490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Mistral"/>
              </a:rPr>
              <a:t>Сложные вещества, состоящие из двух элементов, один из которых кислород, называют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flipH="1">
            <a:off x="7092720" y="5084640"/>
            <a:ext cx="1011240" cy="151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3573360"/>
            <a:ext cx="749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Mistral"/>
              </a:rPr>
              <a:t>Сложные вещества, состоящие из атомов водорода и кислотного остатка, называют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flipH="1">
            <a:off x="7236000" y="5013360"/>
            <a:ext cx="1009440" cy="1657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3573360"/>
            <a:ext cx="749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Mistral"/>
              </a:rPr>
              <a:t>Способность атома образовывать химические связи называет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36000" y="4653000"/>
            <a:ext cx="1089000" cy="172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26920" y="3573360"/>
            <a:ext cx="749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Mistral"/>
              </a:rPr>
              <a:t>Сложные вещества, состоящие из атома металла и кислотного остатка, называют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flipH="1">
            <a:off x="6516360" y="5157720"/>
            <a:ext cx="1716120" cy="127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3284640"/>
            <a:ext cx="6985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Mistral"/>
              </a:rPr>
              <a:t>Сложные вещества, состоящие из атома металла и одной или нескольких гидроксогрупп, называют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236000" y="5157720"/>
            <a:ext cx="1068120" cy="1440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6920" y="3573360"/>
            <a:ext cx="705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Mistral"/>
              </a:rPr>
              <a:t>Способность атома отдавать или принимать электроны называет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 flipH="1">
            <a:off x="6227640" y="5157720"/>
            <a:ext cx="1789200" cy="133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148360" y="5013360"/>
            <a:ext cx="3529080" cy="1352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1700280"/>
            <a:ext cx="8136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Вы пока самое слабое звен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Прощайт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26920" y="2997360"/>
            <a:ext cx="7490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Протекает ли химическая реакция, есть ли какие-то условия и что в результате образу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5178600"/>
            <a:ext cx="58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Кислота + Металл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 flipH="1">
            <a:off x="6948000" y="5373720"/>
            <a:ext cx="1760760" cy="1009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26920" y="2997360"/>
            <a:ext cx="7490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Протекает ли химическая реакция, есть ли какие-то условия и что в результате образу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5157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Соль + Соль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 flipH="1">
            <a:off x="7164000" y="4437000"/>
            <a:ext cx="1120680" cy="1797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333360"/>
            <a:ext cx="8424720" cy="86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Mistral"/>
              </a:rPr>
              <a:t>Тема Игр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ffff99"/>
                </a:solidFill>
                <a:latin typeface="Mistral"/>
              </a:rPr>
              <a:t>Первоначальные химические понятия. Основные классы неорганических соединений.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19526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26920" y="2997360"/>
            <a:ext cx="7490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Протекает ли химическая реакция, есть ли какие-то условия и что в результате образу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544500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74"/>
                </a:solidFill>
                <a:latin typeface="Mistral"/>
              </a:rPr>
              <a:t>Кисл. окс. + Нераств. осн.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588000" y="4653000"/>
            <a:ext cx="1771920" cy="849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6920" y="2997360"/>
            <a:ext cx="7490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Протекает ли химическая реакция, есть ли какие-то условия и что в результате образу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530064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74"/>
                </a:solidFill>
                <a:latin typeface="Mistral"/>
              </a:rPr>
              <a:t>Основной окс. + Кислота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flipH="1">
            <a:off x="6588000" y="4437000"/>
            <a:ext cx="1827360" cy="1028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26920" y="2997360"/>
            <a:ext cx="7490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Протекает ли химическая реакция, есть ли какие-то условия и что в результате образу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5445000"/>
            <a:ext cx="65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Кислота + Основание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1729080" cy="965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580000" y="4797360"/>
            <a:ext cx="3059280" cy="1668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8360" y="1700280"/>
            <a:ext cx="8136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Вы пока самое слабое звен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Прощайт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26920" y="3273480"/>
            <a:ext cx="74901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Какое вещество лишнее в предложенном ряду? Почему? Дайте ему наз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5157720"/>
            <a:ext cx="619308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Na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O,  CuO,  Fe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,  S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948360" y="5384880"/>
            <a:ext cx="1809720" cy="996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6920" y="3273480"/>
            <a:ext cx="74901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Какое вещество лишнее в предложенном ряду? Почему? Дайте ему наз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5157720"/>
            <a:ext cx="72709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H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S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4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,  Na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S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4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, Al(OH)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,  N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4941720"/>
            <a:ext cx="990720" cy="1684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26920" y="3273480"/>
            <a:ext cx="74901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Какое вещество лишнее в предложенном ряду? Почему? Дайте ему наз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5084640"/>
            <a:ext cx="727236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NaOH,  Fe(OH)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,  KOH,  Rb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667640" y="5013360"/>
            <a:ext cx="1117440" cy="1590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6920" y="3273480"/>
            <a:ext cx="74901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Какое вещество лишнее в предложенном ряду? Почему? Дайте ему наз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5229360"/>
            <a:ext cx="68407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H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P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4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,  HCl,  HN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,  H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S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 flipH="1">
            <a:off x="7235640" y="5373720"/>
            <a:ext cx="1485720" cy="954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26920" y="327348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Закончите уравнения возможных реак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4797360"/>
            <a:ext cx="475164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H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S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4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 + Mg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5276880"/>
            <a:ext cx="2305080" cy="10508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26920" y="327348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Закончите уравнения возможных реак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4797360"/>
            <a:ext cx="475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Na + H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O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867280" y="4748040"/>
            <a:ext cx="2737080" cy="1474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6280"/>
            <a:ext cx="86421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03280" y="3928680"/>
            <a:ext cx="2720520" cy="2240280"/>
            <a:chOff x="1403280" y="3928680"/>
            <a:chExt cx="2720520" cy="2240280"/>
          </a:xfrm>
        </p:grpSpPr>
        <p:grpSp>
          <p:nvGrpSpPr>
            <p:cNvPr id="50" name=""/>
            <p:cNvGrpSpPr/>
            <p:nvPr/>
          </p:nvGrpSpPr>
          <p:grpSpPr>
            <a:xfrm>
              <a:off x="1403280" y="5203080"/>
              <a:ext cx="2157840" cy="527400"/>
              <a:chOff x="1403280" y="5203080"/>
              <a:chExt cx="2157840" cy="52740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2481480" y="5320080"/>
                <a:ext cx="1079640" cy="41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03280" y="5320440"/>
                <a:ext cx="1078200" cy="41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403280" y="5203440"/>
                <a:ext cx="1078200" cy="41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481480" y="5203080"/>
                <a:ext cx="1079640" cy="41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2481480" y="5613120"/>
                <a:ext cx="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 rot="859200">
              <a:off x="1701720" y="4902120"/>
              <a:ext cx="1710000" cy="753120"/>
            </a:xfrm>
            <a:prstGeom prst="irregularSeal2">
              <a:avLst/>
            </a:prstGeom>
            <a:solidFill>
              <a:srgbClr val="cde9eb">
                <a:alpha val="40000"/>
              </a:srgbClr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 flipH="1" rot="19346400">
              <a:off x="2255040" y="4220640"/>
              <a:ext cx="1521720" cy="165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6300720" y="3500280"/>
            <a:ext cx="1079280" cy="2232000"/>
            <a:chOff x="6300720" y="3500280"/>
            <a:chExt cx="1079280" cy="2232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rcRect l="0" t="0" r="21893" b="30732"/>
            <a:stretch/>
          </p:blipFill>
          <p:spPr>
            <a:xfrm>
              <a:off x="6300720" y="4124880"/>
              <a:ext cx="1079280" cy="160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flipH="1">
              <a:off x="6635160" y="3574800"/>
              <a:ext cx="80280" cy="640080"/>
            </a:xfrm>
            <a:custGeom>
              <a:avLst/>
              <a:gdLst/>
              <a:ahLst/>
              <a:rect l="l" t="t" r="r" b="b"/>
              <a:pathLst>
                <a:path w="152" h="1370">
                  <a:moveTo>
                    <a:pt x="133" y="0"/>
                  </a:moveTo>
                  <a:cubicBezTo>
                    <a:pt x="113" y="41"/>
                    <a:pt x="10" y="160"/>
                    <a:pt x="11" y="246"/>
                  </a:cubicBezTo>
                  <a:cubicBezTo>
                    <a:pt x="12" y="332"/>
                    <a:pt x="143" y="424"/>
                    <a:pt x="141" y="515"/>
                  </a:cubicBezTo>
                  <a:cubicBezTo>
                    <a:pt x="139" y="606"/>
                    <a:pt x="0" y="693"/>
                    <a:pt x="1" y="794"/>
                  </a:cubicBezTo>
                  <a:cubicBezTo>
                    <a:pt x="2" y="895"/>
                    <a:pt x="148" y="1023"/>
                    <a:pt x="150" y="1119"/>
                  </a:cubicBezTo>
                  <a:cubicBezTo>
                    <a:pt x="152" y="1215"/>
                    <a:pt x="40" y="1318"/>
                    <a:pt x="11" y="1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800040" y="3500280"/>
              <a:ext cx="80280" cy="640080"/>
            </a:xfrm>
            <a:custGeom>
              <a:avLst/>
              <a:gdLst/>
              <a:ahLst/>
              <a:rect l="l" t="t" r="r" b="b"/>
              <a:pathLst>
                <a:path w="152" h="1370">
                  <a:moveTo>
                    <a:pt x="133" y="0"/>
                  </a:moveTo>
                  <a:cubicBezTo>
                    <a:pt x="113" y="41"/>
                    <a:pt x="10" y="160"/>
                    <a:pt x="11" y="246"/>
                  </a:cubicBezTo>
                  <a:cubicBezTo>
                    <a:pt x="12" y="332"/>
                    <a:pt x="143" y="424"/>
                    <a:pt x="141" y="515"/>
                  </a:cubicBezTo>
                  <a:cubicBezTo>
                    <a:pt x="139" y="606"/>
                    <a:pt x="0" y="693"/>
                    <a:pt x="1" y="794"/>
                  </a:cubicBezTo>
                  <a:cubicBezTo>
                    <a:pt x="2" y="895"/>
                    <a:pt x="148" y="1023"/>
                    <a:pt x="150" y="1119"/>
                  </a:cubicBezTo>
                  <a:cubicBezTo>
                    <a:pt x="152" y="1215"/>
                    <a:pt x="40" y="1318"/>
                    <a:pt x="11" y="1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965280" y="3663720"/>
              <a:ext cx="80280" cy="640080"/>
            </a:xfrm>
            <a:custGeom>
              <a:avLst/>
              <a:gdLst/>
              <a:ahLst/>
              <a:rect l="l" t="t" r="r" b="b"/>
              <a:pathLst>
                <a:path w="152" h="1370">
                  <a:moveTo>
                    <a:pt x="133" y="0"/>
                  </a:moveTo>
                  <a:cubicBezTo>
                    <a:pt x="113" y="41"/>
                    <a:pt x="10" y="160"/>
                    <a:pt x="11" y="246"/>
                  </a:cubicBezTo>
                  <a:cubicBezTo>
                    <a:pt x="12" y="332"/>
                    <a:pt x="143" y="424"/>
                    <a:pt x="141" y="515"/>
                  </a:cubicBezTo>
                  <a:cubicBezTo>
                    <a:pt x="139" y="606"/>
                    <a:pt x="0" y="693"/>
                    <a:pt x="1" y="794"/>
                  </a:cubicBezTo>
                  <a:cubicBezTo>
                    <a:pt x="2" y="895"/>
                    <a:pt x="148" y="1023"/>
                    <a:pt x="150" y="1119"/>
                  </a:cubicBezTo>
                  <a:cubicBezTo>
                    <a:pt x="152" y="1215"/>
                    <a:pt x="40" y="1318"/>
                    <a:pt x="11" y="1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00000" y="292428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О физическом или о химическом явлении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589720"/>
            <a:ext cx="40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Mistral"/>
              </a:rPr>
              <a:t>Смесь бертолетовой соли и фосфора взрывается от удара молотк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73408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Протухание 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26920" y="327348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Закончите уравнения возможных реак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4797360"/>
            <a:ext cx="475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K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O + H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O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56360" y="4707000"/>
            <a:ext cx="2062080" cy="1687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26920" y="327348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Закончите уравнения возможных реак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797360"/>
            <a:ext cx="475164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H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O + N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O</a:t>
            </a:r>
            <a:r>
              <a:rPr b="0" lang="en-US" sz="5400" spc="-1" strike="noStrike" baseline="-25000">
                <a:solidFill>
                  <a:srgbClr val="000074"/>
                </a:solidFill>
                <a:latin typeface="Mistral"/>
              </a:rPr>
              <a:t>5</a:t>
            </a:r>
            <a:r>
              <a:rPr b="0" lang="en-US" sz="5400" spc="-1" strike="noStrike">
                <a:solidFill>
                  <a:srgbClr val="000074"/>
                </a:solidFill>
                <a:latin typeface="Mistral"/>
              </a:rPr>
              <a:t> =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84720" y="4979880"/>
            <a:ext cx="2124360" cy="1311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26920" y="3933720"/>
            <a:ext cx="1684440" cy="24987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8360" y="1700280"/>
            <a:ext cx="8136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Вы пока самое слабое звен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Прощайт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26920" y="2997360"/>
            <a:ext cx="74901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Какое свойство класса соединений забыли указ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403280" y="4149720"/>
            <a:ext cx="6048360" cy="2427480"/>
            <a:chOff x="1403280" y="4149720"/>
            <a:chExt cx="6048360" cy="2427480"/>
          </a:xfrm>
        </p:grpSpPr>
        <p:sp>
          <p:nvSpPr>
            <p:cNvPr id="277" name=""/>
            <p:cNvSpPr/>
            <p:nvPr/>
          </p:nvSpPr>
          <p:spPr>
            <a:xfrm>
              <a:off x="1403280" y="4149720"/>
              <a:ext cx="5545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Кислота + Металл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03280" y="4581360"/>
              <a:ext cx="6048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Кислота + Основной оксид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03280" y="5010120"/>
              <a:ext cx="5545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Кислота + Основание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03280" y="544212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Кислота + Соль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3280" y="587376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Кислота + ?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300720" y="5373720"/>
            <a:ext cx="2448000" cy="1154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26920" y="2997360"/>
            <a:ext cx="74901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Какое свойство класса соединений забыли указ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03280" y="4149720"/>
            <a:ext cx="6048360" cy="1998720"/>
            <a:chOff x="1403280" y="4149720"/>
            <a:chExt cx="6048360" cy="1998720"/>
          </a:xfrm>
        </p:grpSpPr>
        <p:sp>
          <p:nvSpPr>
            <p:cNvPr id="288" name=""/>
            <p:cNvSpPr/>
            <p:nvPr/>
          </p:nvSpPr>
          <p:spPr>
            <a:xfrm>
              <a:off x="1403280" y="4149720"/>
              <a:ext cx="417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Соль + кислота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03280" y="4794120"/>
              <a:ext cx="604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Соль + Щелочь 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03280" y="5445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Соль + ?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84720" y="4221000"/>
            <a:ext cx="2008440" cy="1908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826920" y="2997360"/>
            <a:ext cx="74901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Какое свойство класса соединений забыли указ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19280" y="4221000"/>
            <a:ext cx="6553080" cy="2464200"/>
            <a:chOff x="1619280" y="4221000"/>
            <a:chExt cx="6553080" cy="2464200"/>
          </a:xfrm>
        </p:grpSpPr>
        <p:sp>
          <p:nvSpPr>
            <p:cNvPr id="297" name=""/>
            <p:cNvSpPr/>
            <p:nvPr/>
          </p:nvSpPr>
          <p:spPr>
            <a:xfrm>
              <a:off x="1619280" y="4221000"/>
              <a:ext cx="6553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Нераств. основание + Кислота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5372280"/>
              <a:ext cx="6048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Щелочь + Кислотный оксид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19280" y="594504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Щелочь + ?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 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19280" y="4794120"/>
              <a:ext cx="6048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74"/>
                  </a:solidFill>
                  <a:latin typeface="Mistral"/>
                </a:rPr>
                <a:t>Нераств. основание </a:t>
              </a:r>
              <a:r>
                <a:rPr b="0" lang="en-US" sz="4000" spc="-1" strike="noStrike">
                  <a:solidFill>
                    <a:srgbClr val="000074"/>
                  </a:solidFill>
                  <a:latin typeface="Mistral"/>
                </a:rPr>
                <a:t>=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03640" y="4581360"/>
              <a:ext cx="50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4"/>
                  </a:solidFill>
                  <a:latin typeface="Mistral"/>
                </a:rPr>
                <a:t>t</a:t>
              </a:r>
              <a:r>
                <a:rPr b="0" lang="en-US" sz="3600" spc="-1" strike="noStrike" baseline="30000">
                  <a:solidFill>
                    <a:srgbClr val="000074"/>
                  </a:solidFill>
                  <a:latin typeface="Mistral"/>
                </a:rPr>
                <a:t>o</a:t>
              </a:r>
              <a:r>
                <a:rPr b="0" lang="ru-RU" sz="3200" spc="-1" strike="noStrike">
                  <a:solidFill>
                    <a:srgbClr val="000074"/>
                  </a:solidFill>
                  <a:latin typeface="President Cyr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1062000" cy="1442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26920" y="3246480"/>
            <a:ext cx="749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Определить степень окисления</a:t>
            </a: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элементов в соедин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549680"/>
            <a:ext cx="244764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H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SO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 flipH="1">
            <a:off x="6443640" y="4365720"/>
            <a:ext cx="1735200" cy="1798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419640" y="4549680"/>
            <a:ext cx="244764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NaNO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084720" y="5203800"/>
            <a:ext cx="2305080" cy="1046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3246480"/>
            <a:ext cx="749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Определить степень окисления</a:t>
            </a: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элементов в соедин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419640" y="4549680"/>
            <a:ext cx="244764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H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PO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867280" y="4400640"/>
            <a:ext cx="2233800" cy="195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V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3246480"/>
            <a:ext cx="749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Определить степень окисления</a:t>
            </a: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элементов в соедин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2089080" cy="1763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68360" y="1700280"/>
            <a:ext cx="8136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Вы пока самое слабое звен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Прощайт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050120" y="4245120"/>
            <a:ext cx="2433600" cy="1941840"/>
            <a:chOff x="1050120" y="4245120"/>
            <a:chExt cx="2433600" cy="1941840"/>
          </a:xfrm>
        </p:grpSpPr>
        <p:sp>
          <p:nvSpPr>
            <p:cNvPr id="68" name=""/>
            <p:cNvSpPr/>
            <p:nvPr/>
          </p:nvSpPr>
          <p:spPr>
            <a:xfrm rot="20080800">
              <a:off x="1187280" y="4652640"/>
              <a:ext cx="2158920" cy="11268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474560" y="4365720"/>
              <a:ext cx="1603440" cy="165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1844640" cy="194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92428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О физическом или о химическом явлении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60213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Сгибание гвоз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5950080"/>
            <a:ext cx="172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Листо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4360" y="3284640"/>
            <a:ext cx="7489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Запись </a:t>
            </a: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	</a:t>
            </a: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5</a:t>
            </a: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H</a:t>
            </a:r>
            <a:r>
              <a:rPr b="0" lang="en-US" sz="4400" spc="-1" strike="noStrike" baseline="-25000">
                <a:solidFill>
                  <a:srgbClr val="000066"/>
                </a:solidFill>
                <a:latin typeface="Mistral"/>
              </a:rPr>
              <a:t>2</a:t>
            </a: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O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означ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16000" y="4005360"/>
            <a:ext cx="741672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Mistral"/>
              </a:rPr>
              <a:t>а) 5 атомов водор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Mistral"/>
              </a:rPr>
              <a:t>б) 10 атомов водорода и 5 атомов кислор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Mistral"/>
              </a:rPr>
              <a:t>в) 5 молекул вод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Mistral"/>
              </a:rPr>
              <a:t>г) 10 атомов водорода и 1 атом кислор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9280" y="1484280"/>
            <a:ext cx="360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istral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4360" y="3284640"/>
            <a:ext cx="7489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Запись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 N</a:t>
            </a:r>
            <a:r>
              <a:rPr b="0" lang="en-US" sz="4400" spc="-1" strike="noStrike" baseline="-25000">
                <a:solidFill>
                  <a:srgbClr val="000066"/>
                </a:solidFill>
                <a:latin typeface="Mistral"/>
              </a:rPr>
              <a:t>2</a:t>
            </a: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O 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66"/>
                </a:solidFill>
                <a:latin typeface="Mistral"/>
              </a:rPr>
              <a:t>означ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4005360"/>
            <a:ext cx="741672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Mistral"/>
              </a:rPr>
              <a:t>а) 1 молекула оксида азота(</a:t>
            </a:r>
            <a:r>
              <a:rPr b="0" lang="en-US" sz="3600" spc="-1" strike="noStrike">
                <a:solidFill>
                  <a:srgbClr val="000066"/>
                </a:solidFill>
                <a:latin typeface="Mistral"/>
              </a:rPr>
              <a:t>I</a:t>
            </a:r>
            <a:r>
              <a:rPr b="0" lang="ru-RU" sz="3600" spc="-1" strike="noStrike">
                <a:solidFill>
                  <a:srgbClr val="000066"/>
                </a:solidFill>
                <a:latin typeface="Mistr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Mistral"/>
              </a:rPr>
              <a:t>б) </a:t>
            </a:r>
            <a:r>
              <a:rPr b="0" lang="en-US" sz="3600" spc="-1" strike="noStrike">
                <a:solidFill>
                  <a:srgbClr val="000066"/>
                </a:solidFill>
                <a:latin typeface="Mistral"/>
              </a:rPr>
              <a:t>2 </a:t>
            </a:r>
            <a:r>
              <a:rPr b="0" lang="ru-RU" sz="3600" spc="-1" strike="noStrike">
                <a:solidFill>
                  <a:srgbClr val="000066"/>
                </a:solidFill>
                <a:latin typeface="Mistral"/>
              </a:rPr>
              <a:t>атома азота и 1 атом кислор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Mistral"/>
              </a:rPr>
              <a:t>в) 3 атом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Mistral"/>
              </a:rPr>
              <a:t>г) 1 атом азота и 2 атома кислор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59280" y="1484280"/>
            <a:ext cx="360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istral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4360" y="3519360"/>
            <a:ext cx="46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Назовите вещест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27280" y="4437000"/>
            <a:ext cx="302436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Fe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2</a:t>
            </a: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(SO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4</a:t>
            </a: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)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227640" y="4911840"/>
            <a:ext cx="2305080" cy="1181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59280" y="1484280"/>
            <a:ext cx="360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istral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519360"/>
            <a:ext cx="46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Назовите вещест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27280" y="4437000"/>
            <a:ext cx="302436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Cr(NO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r>
              <a:rPr b="0" lang="en-US" sz="6600" spc="-1" strike="noStrike">
                <a:solidFill>
                  <a:srgbClr val="000074"/>
                </a:solidFill>
                <a:latin typeface="Mistral"/>
              </a:rPr>
              <a:t>)</a:t>
            </a:r>
            <a:r>
              <a:rPr b="0" lang="en-US" sz="6600" spc="-1" strike="noStrike" baseline="-25000">
                <a:solidFill>
                  <a:srgbClr val="000074"/>
                </a:solidFill>
                <a:latin typeface="Mistr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156360" y="4941720"/>
            <a:ext cx="2374920" cy="1006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59280" y="1484280"/>
            <a:ext cx="360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istral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</a:t>
            </a:r>
            <a:r>
              <a:rPr b="0" lang="en-US" sz="4000" spc="-1" strike="noStrike" u="sng">
                <a:solidFill>
                  <a:srgbClr val="ffefff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59280" y="1484280"/>
            <a:ext cx="360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istral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497560" y="2125800"/>
          <a:ext cx="65880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7560" y="2125800"/>
                    <a:ext cx="6588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497560" y="3205080"/>
            <a:ext cx="622080" cy="3304800"/>
            <a:chOff x="5497560" y="3205080"/>
            <a:chExt cx="622080" cy="3304800"/>
          </a:xfrm>
        </p:grpSpPr>
        <p:sp>
          <p:nvSpPr>
            <p:cNvPr id="354" name=""/>
            <p:cNvSpPr/>
            <p:nvPr/>
          </p:nvSpPr>
          <p:spPr>
            <a:xfrm rot="5400000">
              <a:off x="5517000" y="5907240"/>
              <a:ext cx="582840" cy="622080"/>
            </a:xfrm>
            <a:prstGeom prst="flowChartDelay">
              <a:avLst/>
            </a:prstGeom>
            <a:gradFill rotWithShape="0">
              <a:gsLst>
                <a:gs pos="0">
                  <a:srgbClr val="b5edff"/>
                </a:gs>
                <a:gs pos="100000">
                  <a:srgbClr val="effd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119640" y="3301560"/>
              <a:ext cx="0" cy="26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497560" y="3301560"/>
              <a:ext cx="0" cy="26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97560" y="3205080"/>
              <a:ext cx="622080" cy="19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 rot="5400000">
            <a:off x="5517360" y="5922360"/>
            <a:ext cx="582480" cy="622080"/>
          </a:xfrm>
          <a:prstGeom prst="flowChartDelay">
            <a:avLst/>
          </a:prstGeom>
          <a:gradFill rotWithShape="0">
            <a:gsLst>
              <a:gs pos="0">
                <a:srgbClr val="ff8d8d"/>
              </a:gs>
              <a:gs pos="100000">
                <a:srgbClr val="ffb5b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7451640" y="2131920"/>
          <a:ext cx="66060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2131920"/>
                    <a:ext cx="6606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1" name=""/>
          <p:cNvGrpSpPr/>
          <p:nvPr/>
        </p:nvGrpSpPr>
        <p:grpSpPr>
          <a:xfrm>
            <a:off x="7451640" y="3213000"/>
            <a:ext cx="649440" cy="3311640"/>
            <a:chOff x="7451640" y="3213000"/>
            <a:chExt cx="649440" cy="3311640"/>
          </a:xfrm>
        </p:grpSpPr>
        <p:sp>
          <p:nvSpPr>
            <p:cNvPr id="362" name=""/>
            <p:cNvSpPr/>
            <p:nvPr/>
          </p:nvSpPr>
          <p:spPr>
            <a:xfrm rot="5400000">
              <a:off x="7484040" y="5907600"/>
              <a:ext cx="584280" cy="649440"/>
            </a:xfrm>
            <a:prstGeom prst="flowChartDelay">
              <a:avLst/>
            </a:prstGeom>
            <a:gradFill rotWithShape="0">
              <a:gsLst>
                <a:gs pos="0">
                  <a:srgbClr val="b5edff"/>
                </a:gs>
                <a:gs pos="100000">
                  <a:srgbClr val="effd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101080" y="3309480"/>
              <a:ext cx="0" cy="263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451640" y="3309480"/>
              <a:ext cx="0" cy="263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3213000"/>
              <a:ext cx="649440" cy="195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rot="5400000">
            <a:off x="7484040" y="5915520"/>
            <a:ext cx="584280" cy="649440"/>
          </a:xfrm>
          <a:prstGeom prst="flowChartDelay">
            <a:avLst/>
          </a:prstGeom>
          <a:gradFill rotWithShape="0">
            <a:gsLst>
              <a:gs pos="0">
                <a:srgbClr val="8da0ff"/>
              </a:gs>
              <a:gs pos="100000">
                <a:srgbClr val="e8e8f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3213000"/>
            <a:ext cx="4319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Даны два вещества: кислота и вода. Определить где что наход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00451 0.49004 E">
                                      <p:cBhvr>
                                        <p:cTn id="8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00451 0.49004 E">
                                      <p:cBhvr>
                                        <p:cTn id="10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59280" y="1484280"/>
            <a:ext cx="360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istral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580000" y="2276640"/>
          <a:ext cx="66060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276640"/>
                    <a:ext cx="66060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3" name=""/>
          <p:cNvGrpSpPr/>
          <p:nvPr/>
        </p:nvGrpSpPr>
        <p:grpSpPr>
          <a:xfrm>
            <a:off x="5580000" y="3284640"/>
            <a:ext cx="649440" cy="3310920"/>
            <a:chOff x="5580000" y="3284640"/>
            <a:chExt cx="649440" cy="3310920"/>
          </a:xfrm>
        </p:grpSpPr>
        <p:sp>
          <p:nvSpPr>
            <p:cNvPr id="374" name=""/>
            <p:cNvSpPr/>
            <p:nvPr/>
          </p:nvSpPr>
          <p:spPr>
            <a:xfrm rot="5400000">
              <a:off x="5612760" y="5978880"/>
              <a:ext cx="583920" cy="649440"/>
            </a:xfrm>
            <a:prstGeom prst="flowChartDelay">
              <a:avLst/>
            </a:prstGeom>
            <a:gradFill rotWithShape="0">
              <a:gsLst>
                <a:gs pos="0">
                  <a:srgbClr val="b5edff"/>
                </a:gs>
                <a:gs pos="100000">
                  <a:srgbClr val="effd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29440" y="3381120"/>
              <a:ext cx="0" cy="26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580000" y="3381120"/>
              <a:ext cx="0" cy="26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80000" y="3284640"/>
              <a:ext cx="649440" cy="194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 rot="5400000">
            <a:off x="5612400" y="5988600"/>
            <a:ext cx="584280" cy="649440"/>
          </a:xfrm>
          <a:prstGeom prst="flowChartDelay">
            <a:avLst/>
          </a:prstGeom>
          <a:gradFill rotWithShape="0">
            <a:gsLst>
              <a:gs pos="0">
                <a:srgbClr val="5b5fff"/>
              </a:gs>
              <a:gs pos="100000">
                <a:srgbClr val="8da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524720" y="2268360"/>
          <a:ext cx="66060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2268360"/>
                    <a:ext cx="6606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1" name=""/>
          <p:cNvGrpSpPr/>
          <p:nvPr/>
        </p:nvGrpSpPr>
        <p:grpSpPr>
          <a:xfrm>
            <a:off x="7524720" y="3276720"/>
            <a:ext cx="649440" cy="3310920"/>
            <a:chOff x="7524720" y="3276720"/>
            <a:chExt cx="649440" cy="3310920"/>
          </a:xfrm>
        </p:grpSpPr>
        <p:sp>
          <p:nvSpPr>
            <p:cNvPr id="382" name=""/>
            <p:cNvSpPr/>
            <p:nvPr/>
          </p:nvSpPr>
          <p:spPr>
            <a:xfrm rot="5400000">
              <a:off x="7557480" y="5970960"/>
              <a:ext cx="583920" cy="649440"/>
            </a:xfrm>
            <a:prstGeom prst="flowChartDelay">
              <a:avLst/>
            </a:prstGeom>
            <a:gradFill rotWithShape="0">
              <a:gsLst>
                <a:gs pos="0">
                  <a:srgbClr val="b5edff"/>
                </a:gs>
                <a:gs pos="100000">
                  <a:srgbClr val="effd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174160" y="3373200"/>
              <a:ext cx="0" cy="26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524720" y="3373200"/>
              <a:ext cx="0" cy="26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24720" y="3276720"/>
              <a:ext cx="649440" cy="194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 rot="5400000">
            <a:off x="7557120" y="5980680"/>
            <a:ext cx="584280" cy="649440"/>
          </a:xfrm>
          <a:prstGeom prst="flowChartDelay">
            <a:avLst/>
          </a:prstGeom>
          <a:gradFill rotWithShape="0">
            <a:gsLst>
              <a:gs pos="0">
                <a:srgbClr val="8da0ff"/>
              </a:gs>
              <a:gs pos="100000">
                <a:srgbClr val="e8e8f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9640" y="3213000"/>
            <a:ext cx="4319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Даны два вещества: щелочь и вода. Определить где что наход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00451 0.49004 E">
                                      <p:cBhvr>
                                        <p:cTn id="121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00451 0.49004 E">
                                      <p:cBhvr>
                                        <p:cTn id="140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39640" y="4230720"/>
            <a:ext cx="2376720" cy="2128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68360" y="1700280"/>
            <a:ext cx="8136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Вы пока самое слабое звен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Mistral"/>
              </a:rPr>
              <a:t>Прощайт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1476360" y="4437000"/>
            <a:ext cx="2023920" cy="16732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5436360" y="4149720"/>
            <a:ext cx="2592360" cy="2041560"/>
            <a:chOff x="5436360" y="4149720"/>
            <a:chExt cx="2592360" cy="2041560"/>
          </a:xfrm>
        </p:grpSpPr>
        <p:sp>
          <p:nvSpPr>
            <p:cNvPr id="79" name=""/>
            <p:cNvSpPr/>
            <p:nvPr/>
          </p:nvSpPr>
          <p:spPr>
            <a:xfrm rot="20164200">
              <a:off x="5580000" y="4577400"/>
              <a:ext cx="2304720" cy="1197720"/>
            </a:xfrm>
            <a:prstGeom prst="ellipse">
              <a:avLst/>
            </a:prstGeom>
            <a:solidFill>
              <a:srgbClr val="f1b273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5991840" y="4149720"/>
              <a:ext cx="1295640" cy="18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292428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О физическом или о химическом явлении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595008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Горение ко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587700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Дробление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79280" y="4292640"/>
            <a:ext cx="2015640" cy="1944000"/>
            <a:chOff x="1979280" y="4292640"/>
            <a:chExt cx="2015640" cy="19440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2650320" y="5110200"/>
              <a:ext cx="745560" cy="112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1979280" y="4494960"/>
              <a:ext cx="2015640" cy="959400"/>
              <a:chOff x="1979280" y="4494960"/>
              <a:chExt cx="2015640" cy="9594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1982160" y="4913280"/>
                <a:ext cx="2012760" cy="541080"/>
                <a:chOff x="1982160" y="4913280"/>
                <a:chExt cx="2012760" cy="541080"/>
              </a:xfrm>
            </p:grpSpPr>
            <p:sp>
              <p:nvSpPr>
                <p:cNvPr id="91" name=""/>
                <p:cNvSpPr/>
                <p:nvPr/>
              </p:nvSpPr>
              <p:spPr>
                <a:xfrm flipV="1">
                  <a:off x="2988720" y="5067720"/>
                  <a:ext cx="1006200" cy="38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982160" y="5067720"/>
                  <a:ext cx="1006560" cy="38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982160" y="4913640"/>
                  <a:ext cx="100656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2988720" y="4913280"/>
                  <a:ext cx="1006200" cy="41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2988720" y="5327640"/>
                  <a:ext cx="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1982160" y="4913640"/>
                  <a:ext cx="0" cy="15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3994920" y="4913640"/>
                  <a:ext cx="0" cy="15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 flipH="1" flipV="1">
                <a:off x="2985480" y="4495320"/>
                <a:ext cx="100620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1979280" y="4494960"/>
                <a:ext cx="100620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650320" y="4701240"/>
              <a:ext cx="576000" cy="408960"/>
              <a:chOff x="2650320" y="4701240"/>
              <a:chExt cx="576000" cy="408960"/>
            </a:xfrm>
          </p:grpSpPr>
          <p:sp>
            <p:nvSpPr>
              <p:cNvPr id="101" name=""/>
              <p:cNvSpPr/>
              <p:nvPr/>
            </p:nvSpPr>
            <p:spPr>
              <a:xfrm>
                <a:off x="2650320" y="4701240"/>
                <a:ext cx="576000" cy="408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78840" y="4760280"/>
                <a:ext cx="63360" cy="57600"/>
              </a:xfrm>
              <a:prstGeom prst="ellipse">
                <a:avLst/>
              </a:prstGeom>
              <a:solidFill>
                <a:srgbClr val="f3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745720" y="4292640"/>
              <a:ext cx="287280" cy="411120"/>
              <a:chOff x="2745720" y="4292640"/>
              <a:chExt cx="287280" cy="41112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2745720" y="4330800"/>
                <a:ext cx="56160" cy="327600"/>
              </a:xfrm>
              <a:custGeom>
                <a:avLst/>
                <a:gdLst/>
                <a:ahLst/>
                <a:rect l="l" t="t" r="r" b="b"/>
                <a:pathLst>
                  <a:path w="152" h="1370">
                    <a:moveTo>
                      <a:pt x="133" y="0"/>
                    </a:moveTo>
                    <a:cubicBezTo>
                      <a:pt x="113" y="41"/>
                      <a:pt x="10" y="160"/>
                      <a:pt x="11" y="246"/>
                    </a:cubicBezTo>
                    <a:cubicBezTo>
                      <a:pt x="12" y="332"/>
                      <a:pt x="143" y="424"/>
                      <a:pt x="141" y="515"/>
                    </a:cubicBezTo>
                    <a:cubicBezTo>
                      <a:pt x="139" y="606"/>
                      <a:pt x="0" y="693"/>
                      <a:pt x="1" y="794"/>
                    </a:cubicBezTo>
                    <a:cubicBezTo>
                      <a:pt x="2" y="895"/>
                      <a:pt x="148" y="1023"/>
                      <a:pt x="150" y="1119"/>
                    </a:cubicBezTo>
                    <a:cubicBezTo>
                      <a:pt x="152" y="1215"/>
                      <a:pt x="40" y="1318"/>
                      <a:pt x="11" y="137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859480" y="4292640"/>
                <a:ext cx="57240" cy="327600"/>
              </a:xfrm>
              <a:custGeom>
                <a:avLst/>
                <a:gdLst/>
                <a:ahLst/>
                <a:rect l="l" t="t" r="r" b="b"/>
                <a:pathLst>
                  <a:path w="152" h="1370">
                    <a:moveTo>
                      <a:pt x="133" y="0"/>
                    </a:moveTo>
                    <a:cubicBezTo>
                      <a:pt x="113" y="41"/>
                      <a:pt x="10" y="160"/>
                      <a:pt x="11" y="246"/>
                    </a:cubicBezTo>
                    <a:cubicBezTo>
                      <a:pt x="12" y="332"/>
                      <a:pt x="143" y="424"/>
                      <a:pt x="141" y="515"/>
                    </a:cubicBezTo>
                    <a:cubicBezTo>
                      <a:pt x="139" y="606"/>
                      <a:pt x="0" y="693"/>
                      <a:pt x="1" y="794"/>
                    </a:cubicBezTo>
                    <a:cubicBezTo>
                      <a:pt x="2" y="895"/>
                      <a:pt x="148" y="1023"/>
                      <a:pt x="150" y="1119"/>
                    </a:cubicBezTo>
                    <a:cubicBezTo>
                      <a:pt x="152" y="1215"/>
                      <a:pt x="40" y="1318"/>
                      <a:pt x="11" y="137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975400" y="4376160"/>
                <a:ext cx="57240" cy="327600"/>
              </a:xfrm>
              <a:custGeom>
                <a:avLst/>
                <a:gdLst/>
                <a:ahLst/>
                <a:rect l="l" t="t" r="r" b="b"/>
                <a:pathLst>
                  <a:path w="152" h="1370">
                    <a:moveTo>
                      <a:pt x="133" y="0"/>
                    </a:moveTo>
                    <a:cubicBezTo>
                      <a:pt x="113" y="41"/>
                      <a:pt x="10" y="160"/>
                      <a:pt x="11" y="246"/>
                    </a:cubicBezTo>
                    <a:cubicBezTo>
                      <a:pt x="12" y="332"/>
                      <a:pt x="143" y="424"/>
                      <a:pt x="141" y="515"/>
                    </a:cubicBezTo>
                    <a:cubicBezTo>
                      <a:pt x="139" y="606"/>
                      <a:pt x="0" y="693"/>
                      <a:pt x="1" y="794"/>
                    </a:cubicBezTo>
                    <a:cubicBezTo>
                      <a:pt x="2" y="895"/>
                      <a:pt x="148" y="1023"/>
                      <a:pt x="150" y="1119"/>
                    </a:cubicBezTo>
                    <a:cubicBezTo>
                      <a:pt x="152" y="1215"/>
                      <a:pt x="40" y="1318"/>
                      <a:pt x="11" y="137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1422360" cy="2722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292428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О физическом или о химическом явлении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6021360"/>
            <a:ext cx="24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Испарение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595008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Таяние мороже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4076640"/>
            <a:ext cx="1797120" cy="1839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contrast="-24000"/>
          </a:blip>
          <a:stretch/>
        </p:blipFill>
        <p:spPr>
          <a:xfrm>
            <a:off x="6012000" y="3933720"/>
            <a:ext cx="1944720" cy="1922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92428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О физическом или о химическом явлении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587700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Ржавление гвоз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5805360"/>
            <a:ext cx="28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Реакция хамеле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692360" y="4296600"/>
            <a:ext cx="2157480" cy="1510200"/>
            <a:chOff x="1692360" y="4296600"/>
            <a:chExt cx="2157480" cy="1510200"/>
          </a:xfrm>
        </p:grpSpPr>
        <p:sp>
          <p:nvSpPr>
            <p:cNvPr id="122" name=""/>
            <p:cNvSpPr/>
            <p:nvPr/>
          </p:nvSpPr>
          <p:spPr>
            <a:xfrm>
              <a:off x="1692360" y="4995720"/>
              <a:ext cx="1451880" cy="4406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810800" y="4296600"/>
              <a:ext cx="2039040" cy="1510200"/>
              <a:chOff x="1810800" y="4296600"/>
              <a:chExt cx="2039040" cy="151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048120" y="5300280"/>
                <a:ext cx="474120" cy="219240"/>
              </a:xfrm>
              <a:custGeom>
                <a:avLst/>
                <a:gdLst/>
                <a:ahLst/>
                <a:rect l="l" t="t" r="r" b="b"/>
                <a:pathLst>
                  <a:path w="504" h="226">
                    <a:moveTo>
                      <a:pt x="0" y="152"/>
                    </a:moveTo>
                    <a:lnTo>
                      <a:pt x="477" y="0"/>
                    </a:lnTo>
                    <a:lnTo>
                      <a:pt x="504" y="84"/>
                    </a:lnTo>
                    <a:lnTo>
                      <a:pt x="31" y="22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62120" y="5220720"/>
                <a:ext cx="387720" cy="281520"/>
              </a:xfrm>
              <a:custGeom>
                <a:avLst/>
                <a:gdLst/>
                <a:ahLst/>
                <a:rect l="l" t="t" r="r" b="b"/>
                <a:pathLst>
                  <a:path w="412" h="292">
                    <a:moveTo>
                      <a:pt x="0" y="82"/>
                    </a:moveTo>
                    <a:lnTo>
                      <a:pt x="2" y="96"/>
                    </a:lnTo>
                    <a:lnTo>
                      <a:pt x="6" y="128"/>
                    </a:lnTo>
                    <a:lnTo>
                      <a:pt x="14" y="164"/>
                    </a:lnTo>
                    <a:lnTo>
                      <a:pt x="27" y="187"/>
                    </a:lnTo>
                    <a:lnTo>
                      <a:pt x="33" y="189"/>
                    </a:lnTo>
                    <a:lnTo>
                      <a:pt x="43" y="189"/>
                    </a:lnTo>
                    <a:lnTo>
                      <a:pt x="56" y="188"/>
                    </a:lnTo>
                    <a:lnTo>
                      <a:pt x="72" y="186"/>
                    </a:lnTo>
                    <a:lnTo>
                      <a:pt x="89" y="182"/>
                    </a:lnTo>
                    <a:lnTo>
                      <a:pt x="109" y="178"/>
                    </a:lnTo>
                    <a:lnTo>
                      <a:pt x="129" y="172"/>
                    </a:lnTo>
                    <a:lnTo>
                      <a:pt x="150" y="166"/>
                    </a:lnTo>
                    <a:lnTo>
                      <a:pt x="170" y="161"/>
                    </a:lnTo>
                    <a:lnTo>
                      <a:pt x="189" y="155"/>
                    </a:lnTo>
                    <a:lnTo>
                      <a:pt x="208" y="149"/>
                    </a:lnTo>
                    <a:lnTo>
                      <a:pt x="224" y="144"/>
                    </a:lnTo>
                    <a:lnTo>
                      <a:pt x="238" y="140"/>
                    </a:lnTo>
                    <a:lnTo>
                      <a:pt x="248" y="138"/>
                    </a:lnTo>
                    <a:lnTo>
                      <a:pt x="255" y="135"/>
                    </a:lnTo>
                    <a:lnTo>
                      <a:pt x="257" y="134"/>
                    </a:lnTo>
                    <a:lnTo>
                      <a:pt x="290" y="140"/>
                    </a:lnTo>
                    <a:lnTo>
                      <a:pt x="185" y="193"/>
                    </a:lnTo>
                    <a:lnTo>
                      <a:pt x="180" y="201"/>
                    </a:lnTo>
                    <a:lnTo>
                      <a:pt x="171" y="219"/>
                    </a:lnTo>
                    <a:lnTo>
                      <a:pt x="166" y="241"/>
                    </a:lnTo>
                    <a:lnTo>
                      <a:pt x="173" y="261"/>
                    </a:lnTo>
                    <a:lnTo>
                      <a:pt x="182" y="268"/>
                    </a:lnTo>
                    <a:lnTo>
                      <a:pt x="192" y="275"/>
                    </a:lnTo>
                    <a:lnTo>
                      <a:pt x="202" y="279"/>
                    </a:lnTo>
                    <a:lnTo>
                      <a:pt x="214" y="284"/>
                    </a:lnTo>
                    <a:lnTo>
                      <a:pt x="224" y="287"/>
                    </a:lnTo>
                    <a:lnTo>
                      <a:pt x="234" y="290"/>
                    </a:lnTo>
                    <a:lnTo>
                      <a:pt x="245" y="292"/>
                    </a:lnTo>
                    <a:lnTo>
                      <a:pt x="253" y="292"/>
                    </a:lnTo>
                    <a:lnTo>
                      <a:pt x="263" y="291"/>
                    </a:lnTo>
                    <a:lnTo>
                      <a:pt x="277" y="286"/>
                    </a:lnTo>
                    <a:lnTo>
                      <a:pt x="293" y="279"/>
                    </a:lnTo>
                    <a:lnTo>
                      <a:pt x="311" y="270"/>
                    </a:lnTo>
                    <a:lnTo>
                      <a:pt x="330" y="260"/>
                    </a:lnTo>
                    <a:lnTo>
                      <a:pt x="346" y="248"/>
                    </a:lnTo>
                    <a:lnTo>
                      <a:pt x="360" y="237"/>
                    </a:lnTo>
                    <a:lnTo>
                      <a:pt x="370" y="225"/>
                    </a:lnTo>
                    <a:lnTo>
                      <a:pt x="378" y="215"/>
                    </a:lnTo>
                    <a:lnTo>
                      <a:pt x="385" y="204"/>
                    </a:lnTo>
                    <a:lnTo>
                      <a:pt x="392" y="194"/>
                    </a:lnTo>
                    <a:lnTo>
                      <a:pt x="398" y="184"/>
                    </a:lnTo>
                    <a:lnTo>
                      <a:pt x="405" y="170"/>
                    </a:lnTo>
                    <a:lnTo>
                      <a:pt x="409" y="155"/>
                    </a:lnTo>
                    <a:lnTo>
                      <a:pt x="412" y="138"/>
                    </a:lnTo>
                    <a:lnTo>
                      <a:pt x="411" y="119"/>
                    </a:lnTo>
                    <a:lnTo>
                      <a:pt x="408" y="103"/>
                    </a:lnTo>
                    <a:lnTo>
                      <a:pt x="405" y="89"/>
                    </a:lnTo>
                    <a:lnTo>
                      <a:pt x="400" y="76"/>
                    </a:lnTo>
                    <a:lnTo>
                      <a:pt x="396" y="65"/>
                    </a:lnTo>
                    <a:lnTo>
                      <a:pt x="392" y="57"/>
                    </a:lnTo>
                    <a:lnTo>
                      <a:pt x="387" y="49"/>
                    </a:lnTo>
                    <a:lnTo>
                      <a:pt x="383" y="42"/>
                    </a:lnTo>
                    <a:lnTo>
                      <a:pt x="378" y="36"/>
                    </a:lnTo>
                    <a:lnTo>
                      <a:pt x="373" y="30"/>
                    </a:lnTo>
                    <a:lnTo>
                      <a:pt x="367" y="26"/>
                    </a:lnTo>
                    <a:lnTo>
                      <a:pt x="360" y="21"/>
                    </a:lnTo>
                    <a:lnTo>
                      <a:pt x="353" y="18"/>
                    </a:lnTo>
                    <a:lnTo>
                      <a:pt x="340" y="12"/>
                    </a:lnTo>
                    <a:lnTo>
                      <a:pt x="328" y="7"/>
                    </a:lnTo>
                    <a:lnTo>
                      <a:pt x="314" y="4"/>
                    </a:lnTo>
                    <a:lnTo>
                      <a:pt x="299" y="2"/>
                    </a:lnTo>
                    <a:lnTo>
                      <a:pt x="285" y="0"/>
                    </a:lnTo>
                    <a:lnTo>
                      <a:pt x="270" y="0"/>
                    </a:lnTo>
                    <a:lnTo>
                      <a:pt x="256" y="3"/>
                    </a:lnTo>
                    <a:lnTo>
                      <a:pt x="243" y="5"/>
                    </a:lnTo>
                    <a:lnTo>
                      <a:pt x="220" y="11"/>
                    </a:lnTo>
                    <a:lnTo>
                      <a:pt x="197" y="18"/>
                    </a:lnTo>
                    <a:lnTo>
                      <a:pt x="174" y="23"/>
                    </a:lnTo>
                    <a:lnTo>
                      <a:pt x="152" y="30"/>
                    </a:lnTo>
                    <a:lnTo>
                      <a:pt x="132" y="37"/>
                    </a:lnTo>
                    <a:lnTo>
                      <a:pt x="112" y="43"/>
                    </a:lnTo>
                    <a:lnTo>
                      <a:pt x="93" y="49"/>
                    </a:lnTo>
                    <a:lnTo>
                      <a:pt x="75" y="56"/>
                    </a:lnTo>
                    <a:lnTo>
                      <a:pt x="59" y="60"/>
                    </a:lnTo>
                    <a:lnTo>
                      <a:pt x="44" y="66"/>
                    </a:lnTo>
                    <a:lnTo>
                      <a:pt x="31" y="71"/>
                    </a:lnTo>
                    <a:lnTo>
                      <a:pt x="21" y="74"/>
                    </a:lnTo>
                    <a:lnTo>
                      <a:pt x="12" y="78"/>
                    </a:lnTo>
                    <a:lnTo>
                      <a:pt x="6" y="80"/>
                    </a:lnTo>
                    <a:lnTo>
                      <a:pt x="2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32920" y="5247720"/>
                <a:ext cx="1271160" cy="541440"/>
              </a:xfrm>
              <a:custGeom>
                <a:avLst/>
                <a:gdLst/>
                <a:ahLst/>
                <a:rect l="l" t="t" r="r" b="b"/>
                <a:pathLst>
                  <a:path w="1349" h="558">
                    <a:moveTo>
                      <a:pt x="1145" y="0"/>
                    </a:moveTo>
                    <a:lnTo>
                      <a:pt x="0" y="526"/>
                    </a:lnTo>
                    <a:lnTo>
                      <a:pt x="10" y="558"/>
                    </a:lnTo>
                    <a:lnTo>
                      <a:pt x="1339" y="495"/>
                    </a:lnTo>
                    <a:lnTo>
                      <a:pt x="1335" y="492"/>
                    </a:lnTo>
                    <a:lnTo>
                      <a:pt x="1326" y="487"/>
                    </a:lnTo>
                    <a:lnTo>
                      <a:pt x="1313" y="478"/>
                    </a:lnTo>
                    <a:lnTo>
                      <a:pt x="1300" y="469"/>
                    </a:lnTo>
                    <a:lnTo>
                      <a:pt x="1286" y="459"/>
                    </a:lnTo>
                    <a:lnTo>
                      <a:pt x="1275" y="447"/>
                    </a:lnTo>
                    <a:lnTo>
                      <a:pt x="1270" y="438"/>
                    </a:lnTo>
                    <a:lnTo>
                      <a:pt x="1272" y="431"/>
                    </a:lnTo>
                    <a:lnTo>
                      <a:pt x="1279" y="423"/>
                    </a:lnTo>
                    <a:lnTo>
                      <a:pt x="1290" y="412"/>
                    </a:lnTo>
                    <a:lnTo>
                      <a:pt x="1302" y="398"/>
                    </a:lnTo>
                    <a:lnTo>
                      <a:pt x="1316" y="383"/>
                    </a:lnTo>
                    <a:lnTo>
                      <a:pt x="1328" y="369"/>
                    </a:lnTo>
                    <a:lnTo>
                      <a:pt x="1339" y="357"/>
                    </a:lnTo>
                    <a:lnTo>
                      <a:pt x="1347" y="351"/>
                    </a:lnTo>
                    <a:lnTo>
                      <a:pt x="1349" y="347"/>
                    </a:lnTo>
                    <a:lnTo>
                      <a:pt x="1225" y="357"/>
                    </a:lnTo>
                    <a:lnTo>
                      <a:pt x="1312" y="248"/>
                    </a:lnTo>
                    <a:lnTo>
                      <a:pt x="1188" y="232"/>
                    </a:lnTo>
                    <a:lnTo>
                      <a:pt x="1240" y="127"/>
                    </a:lnTo>
                    <a:lnTo>
                      <a:pt x="1161" y="90"/>
                    </a:lnTo>
                    <a:lnTo>
                      <a:pt x="1145" y="0"/>
                    </a:lnTo>
                    <a:close/>
                  </a:path>
                </a:pathLst>
              </a:custGeom>
              <a:solidFill>
                <a:srgbClr val="7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40480" y="4410720"/>
                <a:ext cx="860400" cy="1035000"/>
              </a:xfrm>
              <a:custGeom>
                <a:avLst/>
                <a:gdLst/>
                <a:ahLst/>
                <a:rect l="l" t="t" r="r" b="b"/>
                <a:pathLst>
                  <a:path w="914" h="1065">
                    <a:moveTo>
                      <a:pt x="19" y="595"/>
                    </a:moveTo>
                    <a:lnTo>
                      <a:pt x="19" y="610"/>
                    </a:lnTo>
                    <a:lnTo>
                      <a:pt x="19" y="646"/>
                    </a:lnTo>
                    <a:lnTo>
                      <a:pt x="19" y="684"/>
                    </a:lnTo>
                    <a:lnTo>
                      <a:pt x="19" y="708"/>
                    </a:lnTo>
                    <a:lnTo>
                      <a:pt x="18" y="716"/>
                    </a:lnTo>
                    <a:lnTo>
                      <a:pt x="14" y="729"/>
                    </a:lnTo>
                    <a:lnTo>
                      <a:pt x="8" y="746"/>
                    </a:lnTo>
                    <a:lnTo>
                      <a:pt x="3" y="767"/>
                    </a:lnTo>
                    <a:lnTo>
                      <a:pt x="0" y="792"/>
                    </a:lnTo>
                    <a:lnTo>
                      <a:pt x="0" y="818"/>
                    </a:lnTo>
                    <a:lnTo>
                      <a:pt x="4" y="847"/>
                    </a:lnTo>
                    <a:lnTo>
                      <a:pt x="15" y="878"/>
                    </a:lnTo>
                    <a:lnTo>
                      <a:pt x="28" y="906"/>
                    </a:lnTo>
                    <a:lnTo>
                      <a:pt x="39" y="924"/>
                    </a:lnTo>
                    <a:lnTo>
                      <a:pt x="51" y="936"/>
                    </a:lnTo>
                    <a:lnTo>
                      <a:pt x="62" y="942"/>
                    </a:lnTo>
                    <a:lnTo>
                      <a:pt x="74" y="944"/>
                    </a:lnTo>
                    <a:lnTo>
                      <a:pt x="89" y="946"/>
                    </a:lnTo>
                    <a:lnTo>
                      <a:pt x="105" y="947"/>
                    </a:lnTo>
                    <a:lnTo>
                      <a:pt x="124" y="952"/>
                    </a:lnTo>
                    <a:lnTo>
                      <a:pt x="147" y="957"/>
                    </a:lnTo>
                    <a:lnTo>
                      <a:pt x="172" y="961"/>
                    </a:lnTo>
                    <a:lnTo>
                      <a:pt x="196" y="964"/>
                    </a:lnTo>
                    <a:lnTo>
                      <a:pt x="220" y="965"/>
                    </a:lnTo>
                    <a:lnTo>
                      <a:pt x="241" y="966"/>
                    </a:lnTo>
                    <a:lnTo>
                      <a:pt x="257" y="967"/>
                    </a:lnTo>
                    <a:lnTo>
                      <a:pt x="268" y="967"/>
                    </a:lnTo>
                    <a:lnTo>
                      <a:pt x="272" y="967"/>
                    </a:lnTo>
                    <a:lnTo>
                      <a:pt x="273" y="968"/>
                    </a:lnTo>
                    <a:lnTo>
                      <a:pt x="276" y="972"/>
                    </a:lnTo>
                    <a:lnTo>
                      <a:pt x="283" y="976"/>
                    </a:lnTo>
                    <a:lnTo>
                      <a:pt x="295" y="984"/>
                    </a:lnTo>
                    <a:lnTo>
                      <a:pt x="311" y="994"/>
                    </a:lnTo>
                    <a:lnTo>
                      <a:pt x="334" y="1005"/>
                    </a:lnTo>
                    <a:lnTo>
                      <a:pt x="364" y="1020"/>
                    </a:lnTo>
                    <a:lnTo>
                      <a:pt x="403" y="1036"/>
                    </a:lnTo>
                    <a:lnTo>
                      <a:pt x="425" y="1044"/>
                    </a:lnTo>
                    <a:lnTo>
                      <a:pt x="448" y="1051"/>
                    </a:lnTo>
                    <a:lnTo>
                      <a:pt x="471" y="1056"/>
                    </a:lnTo>
                    <a:lnTo>
                      <a:pt x="495" y="1059"/>
                    </a:lnTo>
                    <a:lnTo>
                      <a:pt x="518" y="1063"/>
                    </a:lnTo>
                    <a:lnTo>
                      <a:pt x="541" y="1064"/>
                    </a:lnTo>
                    <a:lnTo>
                      <a:pt x="564" y="1065"/>
                    </a:lnTo>
                    <a:lnTo>
                      <a:pt x="586" y="1065"/>
                    </a:lnTo>
                    <a:lnTo>
                      <a:pt x="607" y="1064"/>
                    </a:lnTo>
                    <a:lnTo>
                      <a:pt x="627" y="1063"/>
                    </a:lnTo>
                    <a:lnTo>
                      <a:pt x="645" y="1062"/>
                    </a:lnTo>
                    <a:lnTo>
                      <a:pt x="661" y="1059"/>
                    </a:lnTo>
                    <a:lnTo>
                      <a:pt x="675" y="1057"/>
                    </a:lnTo>
                    <a:lnTo>
                      <a:pt x="688" y="1055"/>
                    </a:lnTo>
                    <a:lnTo>
                      <a:pt x="697" y="1054"/>
                    </a:lnTo>
                    <a:lnTo>
                      <a:pt x="703" y="1051"/>
                    </a:lnTo>
                    <a:lnTo>
                      <a:pt x="728" y="1041"/>
                    </a:lnTo>
                    <a:lnTo>
                      <a:pt x="745" y="1030"/>
                    </a:lnTo>
                    <a:lnTo>
                      <a:pt x="756" y="1018"/>
                    </a:lnTo>
                    <a:lnTo>
                      <a:pt x="761" y="1005"/>
                    </a:lnTo>
                    <a:lnTo>
                      <a:pt x="764" y="990"/>
                    </a:lnTo>
                    <a:lnTo>
                      <a:pt x="765" y="975"/>
                    </a:lnTo>
                    <a:lnTo>
                      <a:pt x="765" y="959"/>
                    </a:lnTo>
                    <a:lnTo>
                      <a:pt x="766" y="942"/>
                    </a:lnTo>
                    <a:lnTo>
                      <a:pt x="763" y="912"/>
                    </a:lnTo>
                    <a:lnTo>
                      <a:pt x="753" y="869"/>
                    </a:lnTo>
                    <a:lnTo>
                      <a:pt x="744" y="831"/>
                    </a:lnTo>
                    <a:lnTo>
                      <a:pt x="740" y="815"/>
                    </a:lnTo>
                    <a:lnTo>
                      <a:pt x="892" y="800"/>
                    </a:lnTo>
                    <a:lnTo>
                      <a:pt x="893" y="797"/>
                    </a:lnTo>
                    <a:lnTo>
                      <a:pt x="897" y="787"/>
                    </a:lnTo>
                    <a:lnTo>
                      <a:pt x="903" y="772"/>
                    </a:lnTo>
                    <a:lnTo>
                      <a:pt x="909" y="755"/>
                    </a:lnTo>
                    <a:lnTo>
                      <a:pt x="912" y="734"/>
                    </a:lnTo>
                    <a:lnTo>
                      <a:pt x="914" y="712"/>
                    </a:lnTo>
                    <a:lnTo>
                      <a:pt x="910" y="689"/>
                    </a:lnTo>
                    <a:lnTo>
                      <a:pt x="902" y="669"/>
                    </a:lnTo>
                    <a:lnTo>
                      <a:pt x="893" y="652"/>
                    </a:lnTo>
                    <a:lnTo>
                      <a:pt x="885" y="637"/>
                    </a:lnTo>
                    <a:lnTo>
                      <a:pt x="876" y="626"/>
                    </a:lnTo>
                    <a:lnTo>
                      <a:pt x="866" y="614"/>
                    </a:lnTo>
                    <a:lnTo>
                      <a:pt x="857" y="606"/>
                    </a:lnTo>
                    <a:lnTo>
                      <a:pt x="846" y="599"/>
                    </a:lnTo>
                    <a:lnTo>
                      <a:pt x="833" y="594"/>
                    </a:lnTo>
                    <a:lnTo>
                      <a:pt x="818" y="589"/>
                    </a:lnTo>
                    <a:lnTo>
                      <a:pt x="805" y="587"/>
                    </a:lnTo>
                    <a:lnTo>
                      <a:pt x="793" y="586"/>
                    </a:lnTo>
                    <a:lnTo>
                      <a:pt x="779" y="586"/>
                    </a:lnTo>
                    <a:lnTo>
                      <a:pt x="764" y="584"/>
                    </a:lnTo>
                    <a:lnTo>
                      <a:pt x="750" y="584"/>
                    </a:lnTo>
                    <a:lnTo>
                      <a:pt x="736" y="584"/>
                    </a:lnTo>
                    <a:lnTo>
                      <a:pt x="722" y="583"/>
                    </a:lnTo>
                    <a:lnTo>
                      <a:pt x="711" y="582"/>
                    </a:lnTo>
                    <a:lnTo>
                      <a:pt x="698" y="580"/>
                    </a:lnTo>
                    <a:lnTo>
                      <a:pt x="688" y="576"/>
                    </a:lnTo>
                    <a:lnTo>
                      <a:pt x="680" y="573"/>
                    </a:lnTo>
                    <a:lnTo>
                      <a:pt x="673" y="571"/>
                    </a:lnTo>
                    <a:lnTo>
                      <a:pt x="667" y="567"/>
                    </a:lnTo>
                    <a:lnTo>
                      <a:pt x="664" y="565"/>
                    </a:lnTo>
                    <a:lnTo>
                      <a:pt x="661" y="564"/>
                    </a:lnTo>
                    <a:lnTo>
                      <a:pt x="660" y="563"/>
                    </a:lnTo>
                    <a:lnTo>
                      <a:pt x="660" y="69"/>
                    </a:lnTo>
                    <a:lnTo>
                      <a:pt x="518" y="0"/>
                    </a:lnTo>
                    <a:lnTo>
                      <a:pt x="167" y="258"/>
                    </a:lnTo>
                    <a:lnTo>
                      <a:pt x="19" y="59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10800" y="4296600"/>
                <a:ext cx="867960" cy="1242360"/>
              </a:xfrm>
              <a:custGeom>
                <a:avLst/>
                <a:gdLst/>
                <a:ahLst/>
                <a:rect l="l" t="t" r="r" b="b"/>
                <a:pathLst>
                  <a:path w="920" h="1279">
                    <a:moveTo>
                      <a:pt x="420" y="0"/>
                    </a:moveTo>
                    <a:lnTo>
                      <a:pt x="405" y="1"/>
                    </a:lnTo>
                    <a:lnTo>
                      <a:pt x="387" y="5"/>
                    </a:lnTo>
                    <a:lnTo>
                      <a:pt x="366" y="13"/>
                    </a:lnTo>
                    <a:lnTo>
                      <a:pt x="345" y="24"/>
                    </a:lnTo>
                    <a:lnTo>
                      <a:pt x="325" y="34"/>
                    </a:lnTo>
                    <a:lnTo>
                      <a:pt x="309" y="42"/>
                    </a:lnTo>
                    <a:lnTo>
                      <a:pt x="298" y="49"/>
                    </a:lnTo>
                    <a:lnTo>
                      <a:pt x="294" y="51"/>
                    </a:lnTo>
                    <a:lnTo>
                      <a:pt x="289" y="55"/>
                    </a:lnTo>
                    <a:lnTo>
                      <a:pt x="275" y="65"/>
                    </a:lnTo>
                    <a:lnTo>
                      <a:pt x="254" y="83"/>
                    </a:lnTo>
                    <a:lnTo>
                      <a:pt x="231" y="103"/>
                    </a:lnTo>
                    <a:lnTo>
                      <a:pt x="205" y="129"/>
                    </a:lnTo>
                    <a:lnTo>
                      <a:pt x="178" y="156"/>
                    </a:lnTo>
                    <a:lnTo>
                      <a:pt x="155" y="185"/>
                    </a:lnTo>
                    <a:lnTo>
                      <a:pt x="137" y="215"/>
                    </a:lnTo>
                    <a:lnTo>
                      <a:pt x="129" y="232"/>
                    </a:lnTo>
                    <a:lnTo>
                      <a:pt x="120" y="254"/>
                    </a:lnTo>
                    <a:lnTo>
                      <a:pt x="113" y="277"/>
                    </a:lnTo>
                    <a:lnTo>
                      <a:pt x="113" y="293"/>
                    </a:lnTo>
                    <a:lnTo>
                      <a:pt x="114" y="332"/>
                    </a:lnTo>
                    <a:lnTo>
                      <a:pt x="110" y="398"/>
                    </a:lnTo>
                    <a:lnTo>
                      <a:pt x="107" y="462"/>
                    </a:lnTo>
                    <a:lnTo>
                      <a:pt x="105" y="491"/>
                    </a:lnTo>
                    <a:lnTo>
                      <a:pt x="100" y="502"/>
                    </a:lnTo>
                    <a:lnTo>
                      <a:pt x="86" y="532"/>
                    </a:lnTo>
                    <a:lnTo>
                      <a:pt x="68" y="574"/>
                    </a:lnTo>
                    <a:lnTo>
                      <a:pt x="46" y="623"/>
                    </a:lnTo>
                    <a:lnTo>
                      <a:pt x="26" y="674"/>
                    </a:lnTo>
                    <a:lnTo>
                      <a:pt x="9" y="719"/>
                    </a:lnTo>
                    <a:lnTo>
                      <a:pt x="0" y="753"/>
                    </a:lnTo>
                    <a:lnTo>
                      <a:pt x="0" y="772"/>
                    </a:lnTo>
                    <a:lnTo>
                      <a:pt x="14" y="781"/>
                    </a:lnTo>
                    <a:lnTo>
                      <a:pt x="35" y="787"/>
                    </a:lnTo>
                    <a:lnTo>
                      <a:pt x="62" y="789"/>
                    </a:lnTo>
                    <a:lnTo>
                      <a:pt x="90" y="789"/>
                    </a:lnTo>
                    <a:lnTo>
                      <a:pt x="117" y="787"/>
                    </a:lnTo>
                    <a:lnTo>
                      <a:pt x="140" y="784"/>
                    </a:lnTo>
                    <a:lnTo>
                      <a:pt x="156" y="783"/>
                    </a:lnTo>
                    <a:lnTo>
                      <a:pt x="162" y="782"/>
                    </a:lnTo>
                    <a:lnTo>
                      <a:pt x="160" y="789"/>
                    </a:lnTo>
                    <a:lnTo>
                      <a:pt x="152" y="806"/>
                    </a:lnTo>
                    <a:lnTo>
                      <a:pt x="141" y="832"/>
                    </a:lnTo>
                    <a:lnTo>
                      <a:pt x="129" y="863"/>
                    </a:lnTo>
                    <a:lnTo>
                      <a:pt x="116" y="896"/>
                    </a:lnTo>
                    <a:lnTo>
                      <a:pt x="105" y="928"/>
                    </a:lnTo>
                    <a:lnTo>
                      <a:pt x="97" y="957"/>
                    </a:lnTo>
                    <a:lnTo>
                      <a:pt x="92" y="979"/>
                    </a:lnTo>
                    <a:lnTo>
                      <a:pt x="91" y="995"/>
                    </a:lnTo>
                    <a:lnTo>
                      <a:pt x="93" y="1009"/>
                    </a:lnTo>
                    <a:lnTo>
                      <a:pt x="98" y="1022"/>
                    </a:lnTo>
                    <a:lnTo>
                      <a:pt x="105" y="1032"/>
                    </a:lnTo>
                    <a:lnTo>
                      <a:pt x="113" y="1040"/>
                    </a:lnTo>
                    <a:lnTo>
                      <a:pt x="122" y="1048"/>
                    </a:lnTo>
                    <a:lnTo>
                      <a:pt x="131" y="1055"/>
                    </a:lnTo>
                    <a:lnTo>
                      <a:pt x="141" y="1061"/>
                    </a:lnTo>
                    <a:lnTo>
                      <a:pt x="156" y="1071"/>
                    </a:lnTo>
                    <a:lnTo>
                      <a:pt x="171" y="1082"/>
                    </a:lnTo>
                    <a:lnTo>
                      <a:pt x="185" y="1094"/>
                    </a:lnTo>
                    <a:lnTo>
                      <a:pt x="199" y="1105"/>
                    </a:lnTo>
                    <a:lnTo>
                      <a:pt x="209" y="1115"/>
                    </a:lnTo>
                    <a:lnTo>
                      <a:pt x="219" y="1123"/>
                    </a:lnTo>
                    <a:lnTo>
                      <a:pt x="223" y="1129"/>
                    </a:lnTo>
                    <a:lnTo>
                      <a:pt x="226" y="1131"/>
                    </a:lnTo>
                    <a:lnTo>
                      <a:pt x="223" y="1131"/>
                    </a:lnTo>
                    <a:lnTo>
                      <a:pt x="218" y="1131"/>
                    </a:lnTo>
                    <a:lnTo>
                      <a:pt x="208" y="1132"/>
                    </a:lnTo>
                    <a:lnTo>
                      <a:pt x="196" y="1134"/>
                    </a:lnTo>
                    <a:lnTo>
                      <a:pt x="182" y="1137"/>
                    </a:lnTo>
                    <a:lnTo>
                      <a:pt x="166" y="1141"/>
                    </a:lnTo>
                    <a:lnTo>
                      <a:pt x="148" y="1146"/>
                    </a:lnTo>
                    <a:lnTo>
                      <a:pt x="131" y="1153"/>
                    </a:lnTo>
                    <a:lnTo>
                      <a:pt x="115" y="1164"/>
                    </a:lnTo>
                    <a:lnTo>
                      <a:pt x="103" y="1179"/>
                    </a:lnTo>
                    <a:lnTo>
                      <a:pt x="93" y="1196"/>
                    </a:lnTo>
                    <a:lnTo>
                      <a:pt x="87" y="1213"/>
                    </a:lnTo>
                    <a:lnTo>
                      <a:pt x="83" y="1230"/>
                    </a:lnTo>
                    <a:lnTo>
                      <a:pt x="79" y="1244"/>
                    </a:lnTo>
                    <a:lnTo>
                      <a:pt x="78" y="1255"/>
                    </a:lnTo>
                    <a:lnTo>
                      <a:pt x="78" y="1258"/>
                    </a:lnTo>
                    <a:lnTo>
                      <a:pt x="178" y="1279"/>
                    </a:lnTo>
                    <a:lnTo>
                      <a:pt x="178" y="1277"/>
                    </a:lnTo>
                    <a:lnTo>
                      <a:pt x="177" y="1271"/>
                    </a:lnTo>
                    <a:lnTo>
                      <a:pt x="177" y="1262"/>
                    </a:lnTo>
                    <a:lnTo>
                      <a:pt x="178" y="1252"/>
                    </a:lnTo>
                    <a:lnTo>
                      <a:pt x="182" y="1242"/>
                    </a:lnTo>
                    <a:lnTo>
                      <a:pt x="188" y="1233"/>
                    </a:lnTo>
                    <a:lnTo>
                      <a:pt x="197" y="1226"/>
                    </a:lnTo>
                    <a:lnTo>
                      <a:pt x="209" y="1221"/>
                    </a:lnTo>
                    <a:lnTo>
                      <a:pt x="228" y="1218"/>
                    </a:lnTo>
                    <a:lnTo>
                      <a:pt x="250" y="1212"/>
                    </a:lnTo>
                    <a:lnTo>
                      <a:pt x="274" y="1204"/>
                    </a:lnTo>
                    <a:lnTo>
                      <a:pt x="297" y="1194"/>
                    </a:lnTo>
                    <a:lnTo>
                      <a:pt x="318" y="1181"/>
                    </a:lnTo>
                    <a:lnTo>
                      <a:pt x="335" y="1166"/>
                    </a:lnTo>
                    <a:lnTo>
                      <a:pt x="344" y="1150"/>
                    </a:lnTo>
                    <a:lnTo>
                      <a:pt x="347" y="1131"/>
                    </a:lnTo>
                    <a:lnTo>
                      <a:pt x="337" y="1112"/>
                    </a:lnTo>
                    <a:lnTo>
                      <a:pt x="318" y="1093"/>
                    </a:lnTo>
                    <a:lnTo>
                      <a:pt x="291" y="1074"/>
                    </a:lnTo>
                    <a:lnTo>
                      <a:pt x="261" y="1055"/>
                    </a:lnTo>
                    <a:lnTo>
                      <a:pt x="232" y="1037"/>
                    </a:lnTo>
                    <a:lnTo>
                      <a:pt x="206" y="1018"/>
                    </a:lnTo>
                    <a:lnTo>
                      <a:pt x="186" y="1000"/>
                    </a:lnTo>
                    <a:lnTo>
                      <a:pt x="178" y="983"/>
                    </a:lnTo>
                    <a:lnTo>
                      <a:pt x="182" y="958"/>
                    </a:lnTo>
                    <a:lnTo>
                      <a:pt x="194" y="924"/>
                    </a:lnTo>
                    <a:lnTo>
                      <a:pt x="212" y="885"/>
                    </a:lnTo>
                    <a:lnTo>
                      <a:pt x="234" y="843"/>
                    </a:lnTo>
                    <a:lnTo>
                      <a:pt x="254" y="804"/>
                    </a:lnTo>
                    <a:lnTo>
                      <a:pt x="273" y="772"/>
                    </a:lnTo>
                    <a:lnTo>
                      <a:pt x="287" y="749"/>
                    </a:lnTo>
                    <a:lnTo>
                      <a:pt x="291" y="741"/>
                    </a:lnTo>
                    <a:lnTo>
                      <a:pt x="295" y="738"/>
                    </a:lnTo>
                    <a:lnTo>
                      <a:pt x="304" y="731"/>
                    </a:lnTo>
                    <a:lnTo>
                      <a:pt x="318" y="721"/>
                    </a:lnTo>
                    <a:lnTo>
                      <a:pt x="336" y="706"/>
                    </a:lnTo>
                    <a:lnTo>
                      <a:pt x="357" y="689"/>
                    </a:lnTo>
                    <a:lnTo>
                      <a:pt x="380" y="667"/>
                    </a:lnTo>
                    <a:lnTo>
                      <a:pt x="404" y="644"/>
                    </a:lnTo>
                    <a:lnTo>
                      <a:pt x="428" y="617"/>
                    </a:lnTo>
                    <a:lnTo>
                      <a:pt x="441" y="601"/>
                    </a:lnTo>
                    <a:lnTo>
                      <a:pt x="457" y="580"/>
                    </a:lnTo>
                    <a:lnTo>
                      <a:pt x="474" y="555"/>
                    </a:lnTo>
                    <a:lnTo>
                      <a:pt x="494" y="527"/>
                    </a:lnTo>
                    <a:lnTo>
                      <a:pt x="514" y="497"/>
                    </a:lnTo>
                    <a:lnTo>
                      <a:pt x="534" y="466"/>
                    </a:lnTo>
                    <a:lnTo>
                      <a:pt x="555" y="435"/>
                    </a:lnTo>
                    <a:lnTo>
                      <a:pt x="576" y="403"/>
                    </a:lnTo>
                    <a:lnTo>
                      <a:pt x="597" y="372"/>
                    </a:lnTo>
                    <a:lnTo>
                      <a:pt x="615" y="343"/>
                    </a:lnTo>
                    <a:lnTo>
                      <a:pt x="632" y="315"/>
                    </a:lnTo>
                    <a:lnTo>
                      <a:pt x="647" y="292"/>
                    </a:lnTo>
                    <a:lnTo>
                      <a:pt x="660" y="272"/>
                    </a:lnTo>
                    <a:lnTo>
                      <a:pt x="669" y="257"/>
                    </a:lnTo>
                    <a:lnTo>
                      <a:pt x="675" y="247"/>
                    </a:lnTo>
                    <a:lnTo>
                      <a:pt x="677" y="244"/>
                    </a:lnTo>
                    <a:lnTo>
                      <a:pt x="798" y="149"/>
                    </a:lnTo>
                    <a:lnTo>
                      <a:pt x="851" y="181"/>
                    </a:lnTo>
                    <a:lnTo>
                      <a:pt x="856" y="175"/>
                    </a:lnTo>
                    <a:lnTo>
                      <a:pt x="866" y="161"/>
                    </a:lnTo>
                    <a:lnTo>
                      <a:pt x="880" y="140"/>
                    </a:lnTo>
                    <a:lnTo>
                      <a:pt x="895" y="116"/>
                    </a:lnTo>
                    <a:lnTo>
                      <a:pt x="909" y="92"/>
                    </a:lnTo>
                    <a:lnTo>
                      <a:pt x="918" y="69"/>
                    </a:lnTo>
                    <a:lnTo>
                      <a:pt x="920" y="50"/>
                    </a:lnTo>
                    <a:lnTo>
                      <a:pt x="913" y="39"/>
                    </a:lnTo>
                    <a:lnTo>
                      <a:pt x="904" y="36"/>
                    </a:lnTo>
                    <a:lnTo>
                      <a:pt x="889" y="35"/>
                    </a:lnTo>
                    <a:lnTo>
                      <a:pt x="871" y="36"/>
                    </a:lnTo>
                    <a:lnTo>
                      <a:pt x="848" y="39"/>
                    </a:lnTo>
                    <a:lnTo>
                      <a:pt x="822" y="43"/>
                    </a:lnTo>
                    <a:lnTo>
                      <a:pt x="794" y="48"/>
                    </a:lnTo>
                    <a:lnTo>
                      <a:pt x="765" y="53"/>
                    </a:lnTo>
                    <a:lnTo>
                      <a:pt x="736" y="58"/>
                    </a:lnTo>
                    <a:lnTo>
                      <a:pt x="706" y="64"/>
                    </a:lnTo>
                    <a:lnTo>
                      <a:pt x="678" y="70"/>
                    </a:lnTo>
                    <a:lnTo>
                      <a:pt x="653" y="76"/>
                    </a:lnTo>
                    <a:lnTo>
                      <a:pt x="630" y="81"/>
                    </a:lnTo>
                    <a:lnTo>
                      <a:pt x="610" y="85"/>
                    </a:lnTo>
                    <a:lnTo>
                      <a:pt x="595" y="88"/>
                    </a:lnTo>
                    <a:lnTo>
                      <a:pt x="586" y="91"/>
                    </a:lnTo>
                    <a:lnTo>
                      <a:pt x="583" y="92"/>
                    </a:lnTo>
                    <a:lnTo>
                      <a:pt x="578" y="88"/>
                    </a:lnTo>
                    <a:lnTo>
                      <a:pt x="565" y="78"/>
                    </a:lnTo>
                    <a:lnTo>
                      <a:pt x="547" y="65"/>
                    </a:lnTo>
                    <a:lnTo>
                      <a:pt x="524" y="49"/>
                    </a:lnTo>
                    <a:lnTo>
                      <a:pt x="497" y="32"/>
                    </a:lnTo>
                    <a:lnTo>
                      <a:pt x="471" y="17"/>
                    </a:lnTo>
                    <a:lnTo>
                      <a:pt x="444" y="5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ffc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33480" y="4311720"/>
                <a:ext cx="907200" cy="1203480"/>
              </a:xfrm>
              <a:custGeom>
                <a:avLst/>
                <a:gdLst/>
                <a:ahLst/>
                <a:rect l="l" t="t" r="r" b="b"/>
                <a:pathLst>
                  <a:path w="964" h="1239">
                    <a:moveTo>
                      <a:pt x="941" y="939"/>
                    </a:moveTo>
                    <a:lnTo>
                      <a:pt x="945" y="946"/>
                    </a:lnTo>
                    <a:lnTo>
                      <a:pt x="949" y="957"/>
                    </a:lnTo>
                    <a:lnTo>
                      <a:pt x="955" y="974"/>
                    </a:lnTo>
                    <a:lnTo>
                      <a:pt x="960" y="992"/>
                    </a:lnTo>
                    <a:lnTo>
                      <a:pt x="963" y="1013"/>
                    </a:lnTo>
                    <a:lnTo>
                      <a:pt x="964" y="1035"/>
                    </a:lnTo>
                    <a:lnTo>
                      <a:pt x="964" y="1055"/>
                    </a:lnTo>
                    <a:lnTo>
                      <a:pt x="960" y="1075"/>
                    </a:lnTo>
                    <a:lnTo>
                      <a:pt x="955" y="1077"/>
                    </a:lnTo>
                    <a:lnTo>
                      <a:pt x="949" y="1081"/>
                    </a:lnTo>
                    <a:lnTo>
                      <a:pt x="945" y="1083"/>
                    </a:lnTo>
                    <a:lnTo>
                      <a:pt x="942" y="1080"/>
                    </a:lnTo>
                    <a:lnTo>
                      <a:pt x="939" y="1038"/>
                    </a:lnTo>
                    <a:lnTo>
                      <a:pt x="932" y="1006"/>
                    </a:lnTo>
                    <a:lnTo>
                      <a:pt x="924" y="980"/>
                    </a:lnTo>
                    <a:lnTo>
                      <a:pt x="915" y="962"/>
                    </a:lnTo>
                    <a:lnTo>
                      <a:pt x="910" y="955"/>
                    </a:lnTo>
                    <a:lnTo>
                      <a:pt x="905" y="949"/>
                    </a:lnTo>
                    <a:lnTo>
                      <a:pt x="900" y="944"/>
                    </a:lnTo>
                    <a:lnTo>
                      <a:pt x="893" y="939"/>
                    </a:lnTo>
                    <a:lnTo>
                      <a:pt x="885" y="934"/>
                    </a:lnTo>
                    <a:lnTo>
                      <a:pt x="878" y="931"/>
                    </a:lnTo>
                    <a:lnTo>
                      <a:pt x="871" y="927"/>
                    </a:lnTo>
                    <a:lnTo>
                      <a:pt x="864" y="924"/>
                    </a:lnTo>
                    <a:lnTo>
                      <a:pt x="850" y="918"/>
                    </a:lnTo>
                    <a:lnTo>
                      <a:pt x="837" y="914"/>
                    </a:lnTo>
                    <a:lnTo>
                      <a:pt x="825" y="908"/>
                    </a:lnTo>
                    <a:lnTo>
                      <a:pt x="811" y="901"/>
                    </a:lnTo>
                    <a:lnTo>
                      <a:pt x="798" y="895"/>
                    </a:lnTo>
                    <a:lnTo>
                      <a:pt x="786" y="889"/>
                    </a:lnTo>
                    <a:lnTo>
                      <a:pt x="773" y="883"/>
                    </a:lnTo>
                    <a:lnTo>
                      <a:pt x="760" y="876"/>
                    </a:lnTo>
                    <a:lnTo>
                      <a:pt x="752" y="871"/>
                    </a:lnTo>
                    <a:lnTo>
                      <a:pt x="745" y="866"/>
                    </a:lnTo>
                    <a:lnTo>
                      <a:pt x="738" y="862"/>
                    </a:lnTo>
                    <a:lnTo>
                      <a:pt x="731" y="856"/>
                    </a:lnTo>
                    <a:lnTo>
                      <a:pt x="726" y="850"/>
                    </a:lnTo>
                    <a:lnTo>
                      <a:pt x="720" y="844"/>
                    </a:lnTo>
                    <a:lnTo>
                      <a:pt x="715" y="838"/>
                    </a:lnTo>
                    <a:lnTo>
                      <a:pt x="710" y="830"/>
                    </a:lnTo>
                    <a:lnTo>
                      <a:pt x="700" y="805"/>
                    </a:lnTo>
                    <a:lnTo>
                      <a:pt x="695" y="780"/>
                    </a:lnTo>
                    <a:lnTo>
                      <a:pt x="692" y="753"/>
                    </a:lnTo>
                    <a:lnTo>
                      <a:pt x="691" y="726"/>
                    </a:lnTo>
                    <a:lnTo>
                      <a:pt x="693" y="662"/>
                    </a:lnTo>
                    <a:lnTo>
                      <a:pt x="697" y="522"/>
                    </a:lnTo>
                    <a:lnTo>
                      <a:pt x="700" y="374"/>
                    </a:lnTo>
                    <a:lnTo>
                      <a:pt x="701" y="294"/>
                    </a:lnTo>
                    <a:lnTo>
                      <a:pt x="697" y="294"/>
                    </a:lnTo>
                    <a:lnTo>
                      <a:pt x="686" y="295"/>
                    </a:lnTo>
                    <a:lnTo>
                      <a:pt x="672" y="295"/>
                    </a:lnTo>
                    <a:lnTo>
                      <a:pt x="653" y="296"/>
                    </a:lnTo>
                    <a:lnTo>
                      <a:pt x="636" y="296"/>
                    </a:lnTo>
                    <a:lnTo>
                      <a:pt x="620" y="296"/>
                    </a:lnTo>
                    <a:lnTo>
                      <a:pt x="608" y="296"/>
                    </a:lnTo>
                    <a:lnTo>
                      <a:pt x="602" y="295"/>
                    </a:lnTo>
                    <a:lnTo>
                      <a:pt x="592" y="309"/>
                    </a:lnTo>
                    <a:lnTo>
                      <a:pt x="576" y="332"/>
                    </a:lnTo>
                    <a:lnTo>
                      <a:pt x="554" y="364"/>
                    </a:lnTo>
                    <a:lnTo>
                      <a:pt x="529" y="400"/>
                    </a:lnTo>
                    <a:lnTo>
                      <a:pt x="503" y="437"/>
                    </a:lnTo>
                    <a:lnTo>
                      <a:pt x="479" y="471"/>
                    </a:lnTo>
                    <a:lnTo>
                      <a:pt x="457" y="501"/>
                    </a:lnTo>
                    <a:lnTo>
                      <a:pt x="442" y="522"/>
                    </a:lnTo>
                    <a:lnTo>
                      <a:pt x="432" y="537"/>
                    </a:lnTo>
                    <a:lnTo>
                      <a:pt x="421" y="551"/>
                    </a:lnTo>
                    <a:lnTo>
                      <a:pt x="412" y="567"/>
                    </a:lnTo>
                    <a:lnTo>
                      <a:pt x="402" y="582"/>
                    </a:lnTo>
                    <a:lnTo>
                      <a:pt x="393" y="597"/>
                    </a:lnTo>
                    <a:lnTo>
                      <a:pt x="382" y="612"/>
                    </a:lnTo>
                    <a:lnTo>
                      <a:pt x="371" y="626"/>
                    </a:lnTo>
                    <a:lnTo>
                      <a:pt x="358" y="639"/>
                    </a:lnTo>
                    <a:lnTo>
                      <a:pt x="354" y="642"/>
                    </a:lnTo>
                    <a:lnTo>
                      <a:pt x="348" y="645"/>
                    </a:lnTo>
                    <a:lnTo>
                      <a:pt x="341" y="651"/>
                    </a:lnTo>
                    <a:lnTo>
                      <a:pt x="333" y="658"/>
                    </a:lnTo>
                    <a:lnTo>
                      <a:pt x="325" y="665"/>
                    </a:lnTo>
                    <a:lnTo>
                      <a:pt x="317" y="672"/>
                    </a:lnTo>
                    <a:lnTo>
                      <a:pt x="310" y="677"/>
                    </a:lnTo>
                    <a:lnTo>
                      <a:pt x="303" y="682"/>
                    </a:lnTo>
                    <a:lnTo>
                      <a:pt x="305" y="702"/>
                    </a:lnTo>
                    <a:lnTo>
                      <a:pt x="305" y="721"/>
                    </a:lnTo>
                    <a:lnTo>
                      <a:pt x="304" y="741"/>
                    </a:lnTo>
                    <a:lnTo>
                      <a:pt x="302" y="760"/>
                    </a:lnTo>
                    <a:lnTo>
                      <a:pt x="307" y="764"/>
                    </a:lnTo>
                    <a:lnTo>
                      <a:pt x="314" y="766"/>
                    </a:lnTo>
                    <a:lnTo>
                      <a:pt x="320" y="770"/>
                    </a:lnTo>
                    <a:lnTo>
                      <a:pt x="324" y="775"/>
                    </a:lnTo>
                    <a:lnTo>
                      <a:pt x="339" y="787"/>
                    </a:lnTo>
                    <a:lnTo>
                      <a:pt x="351" y="800"/>
                    </a:lnTo>
                    <a:lnTo>
                      <a:pt x="363" y="813"/>
                    </a:lnTo>
                    <a:lnTo>
                      <a:pt x="374" y="828"/>
                    </a:lnTo>
                    <a:lnTo>
                      <a:pt x="382" y="844"/>
                    </a:lnTo>
                    <a:lnTo>
                      <a:pt x="390" y="861"/>
                    </a:lnTo>
                    <a:lnTo>
                      <a:pt x="397" y="878"/>
                    </a:lnTo>
                    <a:lnTo>
                      <a:pt x="403" y="895"/>
                    </a:lnTo>
                    <a:lnTo>
                      <a:pt x="416" y="946"/>
                    </a:lnTo>
                    <a:lnTo>
                      <a:pt x="415" y="951"/>
                    </a:lnTo>
                    <a:lnTo>
                      <a:pt x="411" y="956"/>
                    </a:lnTo>
                    <a:lnTo>
                      <a:pt x="408" y="961"/>
                    </a:lnTo>
                    <a:lnTo>
                      <a:pt x="404" y="962"/>
                    </a:lnTo>
                    <a:lnTo>
                      <a:pt x="400" y="942"/>
                    </a:lnTo>
                    <a:lnTo>
                      <a:pt x="394" y="923"/>
                    </a:lnTo>
                    <a:lnTo>
                      <a:pt x="387" y="903"/>
                    </a:lnTo>
                    <a:lnTo>
                      <a:pt x="380" y="885"/>
                    </a:lnTo>
                    <a:lnTo>
                      <a:pt x="370" y="866"/>
                    </a:lnTo>
                    <a:lnTo>
                      <a:pt x="359" y="849"/>
                    </a:lnTo>
                    <a:lnTo>
                      <a:pt x="348" y="833"/>
                    </a:lnTo>
                    <a:lnTo>
                      <a:pt x="334" y="817"/>
                    </a:lnTo>
                    <a:lnTo>
                      <a:pt x="329" y="813"/>
                    </a:lnTo>
                    <a:lnTo>
                      <a:pt x="325" y="810"/>
                    </a:lnTo>
                    <a:lnTo>
                      <a:pt x="321" y="806"/>
                    </a:lnTo>
                    <a:lnTo>
                      <a:pt x="317" y="803"/>
                    </a:lnTo>
                    <a:lnTo>
                      <a:pt x="312" y="800"/>
                    </a:lnTo>
                    <a:lnTo>
                      <a:pt x="307" y="797"/>
                    </a:lnTo>
                    <a:lnTo>
                      <a:pt x="303" y="794"/>
                    </a:lnTo>
                    <a:lnTo>
                      <a:pt x="298" y="793"/>
                    </a:lnTo>
                    <a:lnTo>
                      <a:pt x="281" y="842"/>
                    </a:lnTo>
                    <a:lnTo>
                      <a:pt x="269" y="863"/>
                    </a:lnTo>
                    <a:lnTo>
                      <a:pt x="264" y="886"/>
                    </a:lnTo>
                    <a:lnTo>
                      <a:pt x="264" y="909"/>
                    </a:lnTo>
                    <a:lnTo>
                      <a:pt x="267" y="931"/>
                    </a:lnTo>
                    <a:lnTo>
                      <a:pt x="273" y="952"/>
                    </a:lnTo>
                    <a:lnTo>
                      <a:pt x="281" y="968"/>
                    </a:lnTo>
                    <a:lnTo>
                      <a:pt x="290" y="982"/>
                    </a:lnTo>
                    <a:lnTo>
                      <a:pt x="298" y="989"/>
                    </a:lnTo>
                    <a:lnTo>
                      <a:pt x="303" y="991"/>
                    </a:lnTo>
                    <a:lnTo>
                      <a:pt x="313" y="995"/>
                    </a:lnTo>
                    <a:lnTo>
                      <a:pt x="329" y="1001"/>
                    </a:lnTo>
                    <a:lnTo>
                      <a:pt x="350" y="1008"/>
                    </a:lnTo>
                    <a:lnTo>
                      <a:pt x="374" y="1016"/>
                    </a:lnTo>
                    <a:lnTo>
                      <a:pt x="403" y="1025"/>
                    </a:lnTo>
                    <a:lnTo>
                      <a:pt x="435" y="1033"/>
                    </a:lnTo>
                    <a:lnTo>
                      <a:pt x="470" y="1042"/>
                    </a:lnTo>
                    <a:lnTo>
                      <a:pt x="453" y="1046"/>
                    </a:lnTo>
                    <a:lnTo>
                      <a:pt x="428" y="1046"/>
                    </a:lnTo>
                    <a:lnTo>
                      <a:pt x="400" y="1044"/>
                    </a:lnTo>
                    <a:lnTo>
                      <a:pt x="371" y="1038"/>
                    </a:lnTo>
                    <a:lnTo>
                      <a:pt x="343" y="1031"/>
                    </a:lnTo>
                    <a:lnTo>
                      <a:pt x="319" y="1025"/>
                    </a:lnTo>
                    <a:lnTo>
                      <a:pt x="302" y="1020"/>
                    </a:lnTo>
                    <a:lnTo>
                      <a:pt x="295" y="1017"/>
                    </a:lnTo>
                    <a:lnTo>
                      <a:pt x="282" y="1008"/>
                    </a:lnTo>
                    <a:lnTo>
                      <a:pt x="271" y="997"/>
                    </a:lnTo>
                    <a:lnTo>
                      <a:pt x="261" y="985"/>
                    </a:lnTo>
                    <a:lnTo>
                      <a:pt x="253" y="971"/>
                    </a:lnTo>
                    <a:lnTo>
                      <a:pt x="246" y="959"/>
                    </a:lnTo>
                    <a:lnTo>
                      <a:pt x="242" y="944"/>
                    </a:lnTo>
                    <a:lnTo>
                      <a:pt x="237" y="930"/>
                    </a:lnTo>
                    <a:lnTo>
                      <a:pt x="234" y="915"/>
                    </a:lnTo>
                    <a:lnTo>
                      <a:pt x="234" y="892"/>
                    </a:lnTo>
                    <a:lnTo>
                      <a:pt x="238" y="870"/>
                    </a:lnTo>
                    <a:lnTo>
                      <a:pt x="245" y="849"/>
                    </a:lnTo>
                    <a:lnTo>
                      <a:pt x="251" y="828"/>
                    </a:lnTo>
                    <a:lnTo>
                      <a:pt x="260" y="801"/>
                    </a:lnTo>
                    <a:lnTo>
                      <a:pt x="266" y="770"/>
                    </a:lnTo>
                    <a:lnTo>
                      <a:pt x="266" y="740"/>
                    </a:lnTo>
                    <a:lnTo>
                      <a:pt x="261" y="709"/>
                    </a:lnTo>
                    <a:lnTo>
                      <a:pt x="257" y="710"/>
                    </a:lnTo>
                    <a:lnTo>
                      <a:pt x="250" y="712"/>
                    </a:lnTo>
                    <a:lnTo>
                      <a:pt x="242" y="715"/>
                    </a:lnTo>
                    <a:lnTo>
                      <a:pt x="231" y="719"/>
                    </a:lnTo>
                    <a:lnTo>
                      <a:pt x="221" y="723"/>
                    </a:lnTo>
                    <a:lnTo>
                      <a:pt x="211" y="727"/>
                    </a:lnTo>
                    <a:lnTo>
                      <a:pt x="201" y="730"/>
                    </a:lnTo>
                    <a:lnTo>
                      <a:pt x="195" y="733"/>
                    </a:lnTo>
                    <a:lnTo>
                      <a:pt x="190" y="742"/>
                    </a:lnTo>
                    <a:lnTo>
                      <a:pt x="183" y="756"/>
                    </a:lnTo>
                    <a:lnTo>
                      <a:pt x="176" y="774"/>
                    </a:lnTo>
                    <a:lnTo>
                      <a:pt x="167" y="795"/>
                    </a:lnTo>
                    <a:lnTo>
                      <a:pt x="158" y="817"/>
                    </a:lnTo>
                    <a:lnTo>
                      <a:pt x="150" y="838"/>
                    </a:lnTo>
                    <a:lnTo>
                      <a:pt x="142" y="855"/>
                    </a:lnTo>
                    <a:lnTo>
                      <a:pt x="135" y="869"/>
                    </a:lnTo>
                    <a:lnTo>
                      <a:pt x="130" y="884"/>
                    </a:lnTo>
                    <a:lnTo>
                      <a:pt x="124" y="900"/>
                    </a:lnTo>
                    <a:lnTo>
                      <a:pt x="118" y="916"/>
                    </a:lnTo>
                    <a:lnTo>
                      <a:pt x="114" y="932"/>
                    </a:lnTo>
                    <a:lnTo>
                      <a:pt x="110" y="948"/>
                    </a:lnTo>
                    <a:lnTo>
                      <a:pt x="110" y="964"/>
                    </a:lnTo>
                    <a:lnTo>
                      <a:pt x="112" y="982"/>
                    </a:lnTo>
                    <a:lnTo>
                      <a:pt x="117" y="998"/>
                    </a:lnTo>
                    <a:lnTo>
                      <a:pt x="125" y="1009"/>
                    </a:lnTo>
                    <a:lnTo>
                      <a:pt x="140" y="1022"/>
                    </a:lnTo>
                    <a:lnTo>
                      <a:pt x="160" y="1037"/>
                    </a:lnTo>
                    <a:lnTo>
                      <a:pt x="182" y="1052"/>
                    </a:lnTo>
                    <a:lnTo>
                      <a:pt x="203" y="1067"/>
                    </a:lnTo>
                    <a:lnTo>
                      <a:pt x="222" y="1082"/>
                    </a:lnTo>
                    <a:lnTo>
                      <a:pt x="238" y="1096"/>
                    </a:lnTo>
                    <a:lnTo>
                      <a:pt x="248" y="1107"/>
                    </a:lnTo>
                    <a:lnTo>
                      <a:pt x="248" y="1119"/>
                    </a:lnTo>
                    <a:lnTo>
                      <a:pt x="245" y="1130"/>
                    </a:lnTo>
                    <a:lnTo>
                      <a:pt x="238" y="1140"/>
                    </a:lnTo>
                    <a:lnTo>
                      <a:pt x="230" y="1148"/>
                    </a:lnTo>
                    <a:lnTo>
                      <a:pt x="224" y="1150"/>
                    </a:lnTo>
                    <a:lnTo>
                      <a:pt x="214" y="1152"/>
                    </a:lnTo>
                    <a:lnTo>
                      <a:pt x="200" y="1155"/>
                    </a:lnTo>
                    <a:lnTo>
                      <a:pt x="185" y="1158"/>
                    </a:lnTo>
                    <a:lnTo>
                      <a:pt x="169" y="1163"/>
                    </a:lnTo>
                    <a:lnTo>
                      <a:pt x="154" y="1166"/>
                    </a:lnTo>
                    <a:lnTo>
                      <a:pt x="142" y="1169"/>
                    </a:lnTo>
                    <a:lnTo>
                      <a:pt x="131" y="1173"/>
                    </a:lnTo>
                    <a:lnTo>
                      <a:pt x="121" y="1181"/>
                    </a:lnTo>
                    <a:lnTo>
                      <a:pt x="114" y="1190"/>
                    </a:lnTo>
                    <a:lnTo>
                      <a:pt x="108" y="1203"/>
                    </a:lnTo>
                    <a:lnTo>
                      <a:pt x="107" y="1216"/>
                    </a:lnTo>
                    <a:lnTo>
                      <a:pt x="113" y="1217"/>
                    </a:lnTo>
                    <a:lnTo>
                      <a:pt x="117" y="1218"/>
                    </a:lnTo>
                    <a:lnTo>
                      <a:pt x="123" y="1218"/>
                    </a:lnTo>
                    <a:lnTo>
                      <a:pt x="128" y="1217"/>
                    </a:lnTo>
                    <a:lnTo>
                      <a:pt x="129" y="1210"/>
                    </a:lnTo>
                    <a:lnTo>
                      <a:pt x="129" y="1203"/>
                    </a:lnTo>
                    <a:lnTo>
                      <a:pt x="130" y="1196"/>
                    </a:lnTo>
                    <a:lnTo>
                      <a:pt x="133" y="1190"/>
                    </a:lnTo>
                    <a:lnTo>
                      <a:pt x="143" y="1183"/>
                    </a:lnTo>
                    <a:lnTo>
                      <a:pt x="152" y="1178"/>
                    </a:lnTo>
                    <a:lnTo>
                      <a:pt x="162" y="1174"/>
                    </a:lnTo>
                    <a:lnTo>
                      <a:pt x="173" y="1171"/>
                    </a:lnTo>
                    <a:lnTo>
                      <a:pt x="184" y="1168"/>
                    </a:lnTo>
                    <a:lnTo>
                      <a:pt x="196" y="1167"/>
                    </a:lnTo>
                    <a:lnTo>
                      <a:pt x="206" y="1165"/>
                    </a:lnTo>
                    <a:lnTo>
                      <a:pt x="218" y="1161"/>
                    </a:lnTo>
                    <a:lnTo>
                      <a:pt x="224" y="1159"/>
                    </a:lnTo>
                    <a:lnTo>
                      <a:pt x="231" y="1157"/>
                    </a:lnTo>
                    <a:lnTo>
                      <a:pt x="238" y="1155"/>
                    </a:lnTo>
                    <a:lnTo>
                      <a:pt x="245" y="1151"/>
                    </a:lnTo>
                    <a:lnTo>
                      <a:pt x="252" y="1149"/>
                    </a:lnTo>
                    <a:lnTo>
                      <a:pt x="259" y="1145"/>
                    </a:lnTo>
                    <a:lnTo>
                      <a:pt x="266" y="1142"/>
                    </a:lnTo>
                    <a:lnTo>
                      <a:pt x="272" y="1137"/>
                    </a:lnTo>
                    <a:lnTo>
                      <a:pt x="279" y="1130"/>
                    </a:lnTo>
                    <a:lnTo>
                      <a:pt x="282" y="1123"/>
                    </a:lnTo>
                    <a:lnTo>
                      <a:pt x="282" y="1118"/>
                    </a:lnTo>
                    <a:lnTo>
                      <a:pt x="281" y="1111"/>
                    </a:lnTo>
                    <a:lnTo>
                      <a:pt x="272" y="1098"/>
                    </a:lnTo>
                    <a:lnTo>
                      <a:pt x="254" y="1082"/>
                    </a:lnTo>
                    <a:lnTo>
                      <a:pt x="231" y="1065"/>
                    </a:lnTo>
                    <a:lnTo>
                      <a:pt x="206" y="1045"/>
                    </a:lnTo>
                    <a:lnTo>
                      <a:pt x="181" y="1025"/>
                    </a:lnTo>
                    <a:lnTo>
                      <a:pt x="158" y="1006"/>
                    </a:lnTo>
                    <a:lnTo>
                      <a:pt x="140" y="987"/>
                    </a:lnTo>
                    <a:lnTo>
                      <a:pt x="131" y="971"/>
                    </a:lnTo>
                    <a:lnTo>
                      <a:pt x="135" y="947"/>
                    </a:lnTo>
                    <a:lnTo>
                      <a:pt x="144" y="916"/>
                    </a:lnTo>
                    <a:lnTo>
                      <a:pt x="158" y="881"/>
                    </a:lnTo>
                    <a:lnTo>
                      <a:pt x="175" y="846"/>
                    </a:lnTo>
                    <a:lnTo>
                      <a:pt x="191" y="813"/>
                    </a:lnTo>
                    <a:lnTo>
                      <a:pt x="206" y="787"/>
                    </a:lnTo>
                    <a:lnTo>
                      <a:pt x="216" y="768"/>
                    </a:lnTo>
                    <a:lnTo>
                      <a:pt x="221" y="762"/>
                    </a:lnTo>
                    <a:lnTo>
                      <a:pt x="221" y="772"/>
                    </a:lnTo>
                    <a:lnTo>
                      <a:pt x="213" y="796"/>
                    </a:lnTo>
                    <a:lnTo>
                      <a:pt x="200" y="828"/>
                    </a:lnTo>
                    <a:lnTo>
                      <a:pt x="184" y="865"/>
                    </a:lnTo>
                    <a:lnTo>
                      <a:pt x="168" y="903"/>
                    </a:lnTo>
                    <a:lnTo>
                      <a:pt x="156" y="938"/>
                    </a:lnTo>
                    <a:lnTo>
                      <a:pt x="151" y="967"/>
                    </a:lnTo>
                    <a:lnTo>
                      <a:pt x="154" y="984"/>
                    </a:lnTo>
                    <a:lnTo>
                      <a:pt x="165" y="992"/>
                    </a:lnTo>
                    <a:lnTo>
                      <a:pt x="180" y="1005"/>
                    </a:lnTo>
                    <a:lnTo>
                      <a:pt x="200" y="1020"/>
                    </a:lnTo>
                    <a:lnTo>
                      <a:pt x="223" y="1036"/>
                    </a:lnTo>
                    <a:lnTo>
                      <a:pt x="245" y="1052"/>
                    </a:lnTo>
                    <a:lnTo>
                      <a:pt x="267" y="1067"/>
                    </a:lnTo>
                    <a:lnTo>
                      <a:pt x="284" y="1078"/>
                    </a:lnTo>
                    <a:lnTo>
                      <a:pt x="296" y="1088"/>
                    </a:lnTo>
                    <a:lnTo>
                      <a:pt x="306" y="1098"/>
                    </a:lnTo>
                    <a:lnTo>
                      <a:pt x="312" y="1108"/>
                    </a:lnTo>
                    <a:lnTo>
                      <a:pt x="312" y="1119"/>
                    </a:lnTo>
                    <a:lnTo>
                      <a:pt x="310" y="1130"/>
                    </a:lnTo>
                    <a:lnTo>
                      <a:pt x="305" y="1141"/>
                    </a:lnTo>
                    <a:lnTo>
                      <a:pt x="298" y="1148"/>
                    </a:lnTo>
                    <a:lnTo>
                      <a:pt x="289" y="1155"/>
                    </a:lnTo>
                    <a:lnTo>
                      <a:pt x="282" y="1161"/>
                    </a:lnTo>
                    <a:lnTo>
                      <a:pt x="274" y="1166"/>
                    </a:lnTo>
                    <a:lnTo>
                      <a:pt x="266" y="1169"/>
                    </a:lnTo>
                    <a:lnTo>
                      <a:pt x="257" y="1173"/>
                    </a:lnTo>
                    <a:lnTo>
                      <a:pt x="249" y="1176"/>
                    </a:lnTo>
                    <a:lnTo>
                      <a:pt x="239" y="1180"/>
                    </a:lnTo>
                    <a:lnTo>
                      <a:pt x="230" y="1182"/>
                    </a:lnTo>
                    <a:lnTo>
                      <a:pt x="221" y="1184"/>
                    </a:lnTo>
                    <a:lnTo>
                      <a:pt x="212" y="1186"/>
                    </a:lnTo>
                    <a:lnTo>
                      <a:pt x="205" y="1187"/>
                    </a:lnTo>
                    <a:lnTo>
                      <a:pt x="197" y="1188"/>
                    </a:lnTo>
                    <a:lnTo>
                      <a:pt x="190" y="1189"/>
                    </a:lnTo>
                    <a:lnTo>
                      <a:pt x="182" y="1190"/>
                    </a:lnTo>
                    <a:lnTo>
                      <a:pt x="175" y="1191"/>
                    </a:lnTo>
                    <a:lnTo>
                      <a:pt x="167" y="1195"/>
                    </a:lnTo>
                    <a:lnTo>
                      <a:pt x="161" y="1198"/>
                    </a:lnTo>
                    <a:lnTo>
                      <a:pt x="155" y="1204"/>
                    </a:lnTo>
                    <a:lnTo>
                      <a:pt x="154" y="1213"/>
                    </a:lnTo>
                    <a:lnTo>
                      <a:pt x="153" y="1224"/>
                    </a:lnTo>
                    <a:lnTo>
                      <a:pt x="150" y="1233"/>
                    </a:lnTo>
                    <a:lnTo>
                      <a:pt x="142" y="1239"/>
                    </a:lnTo>
                    <a:lnTo>
                      <a:pt x="135" y="1239"/>
                    </a:lnTo>
                    <a:lnTo>
                      <a:pt x="127" y="1237"/>
                    </a:lnTo>
                    <a:lnTo>
                      <a:pt x="117" y="1236"/>
                    </a:lnTo>
                    <a:lnTo>
                      <a:pt x="108" y="1234"/>
                    </a:lnTo>
                    <a:lnTo>
                      <a:pt x="99" y="1232"/>
                    </a:lnTo>
                    <a:lnTo>
                      <a:pt x="92" y="1229"/>
                    </a:lnTo>
                    <a:lnTo>
                      <a:pt x="86" y="1228"/>
                    </a:lnTo>
                    <a:lnTo>
                      <a:pt x="84" y="1226"/>
                    </a:lnTo>
                    <a:lnTo>
                      <a:pt x="82" y="1208"/>
                    </a:lnTo>
                    <a:lnTo>
                      <a:pt x="85" y="1190"/>
                    </a:lnTo>
                    <a:lnTo>
                      <a:pt x="93" y="1173"/>
                    </a:lnTo>
                    <a:lnTo>
                      <a:pt x="103" y="1159"/>
                    </a:lnTo>
                    <a:lnTo>
                      <a:pt x="112" y="1152"/>
                    </a:lnTo>
                    <a:lnTo>
                      <a:pt x="120" y="1148"/>
                    </a:lnTo>
                    <a:lnTo>
                      <a:pt x="129" y="1144"/>
                    </a:lnTo>
                    <a:lnTo>
                      <a:pt x="139" y="1142"/>
                    </a:lnTo>
                    <a:lnTo>
                      <a:pt x="150" y="1140"/>
                    </a:lnTo>
                    <a:lnTo>
                      <a:pt x="160" y="1138"/>
                    </a:lnTo>
                    <a:lnTo>
                      <a:pt x="170" y="1137"/>
                    </a:lnTo>
                    <a:lnTo>
                      <a:pt x="181" y="1135"/>
                    </a:lnTo>
                    <a:lnTo>
                      <a:pt x="185" y="1134"/>
                    </a:lnTo>
                    <a:lnTo>
                      <a:pt x="191" y="1133"/>
                    </a:lnTo>
                    <a:lnTo>
                      <a:pt x="196" y="1131"/>
                    </a:lnTo>
                    <a:lnTo>
                      <a:pt x="200" y="1130"/>
                    </a:lnTo>
                    <a:lnTo>
                      <a:pt x="205" y="1129"/>
                    </a:lnTo>
                    <a:lnTo>
                      <a:pt x="211" y="1128"/>
                    </a:lnTo>
                    <a:lnTo>
                      <a:pt x="215" y="1127"/>
                    </a:lnTo>
                    <a:lnTo>
                      <a:pt x="221" y="1126"/>
                    </a:lnTo>
                    <a:lnTo>
                      <a:pt x="223" y="1122"/>
                    </a:lnTo>
                    <a:lnTo>
                      <a:pt x="227" y="1118"/>
                    </a:lnTo>
                    <a:lnTo>
                      <a:pt x="227" y="1113"/>
                    </a:lnTo>
                    <a:lnTo>
                      <a:pt x="226" y="1108"/>
                    </a:lnTo>
                    <a:lnTo>
                      <a:pt x="222" y="1104"/>
                    </a:lnTo>
                    <a:lnTo>
                      <a:pt x="215" y="1097"/>
                    </a:lnTo>
                    <a:lnTo>
                      <a:pt x="206" y="1091"/>
                    </a:lnTo>
                    <a:lnTo>
                      <a:pt x="197" y="1084"/>
                    </a:lnTo>
                    <a:lnTo>
                      <a:pt x="186" y="1077"/>
                    </a:lnTo>
                    <a:lnTo>
                      <a:pt x="176" y="1072"/>
                    </a:lnTo>
                    <a:lnTo>
                      <a:pt x="168" y="1067"/>
                    </a:lnTo>
                    <a:lnTo>
                      <a:pt x="162" y="1063"/>
                    </a:lnTo>
                    <a:lnTo>
                      <a:pt x="154" y="1059"/>
                    </a:lnTo>
                    <a:lnTo>
                      <a:pt x="143" y="1050"/>
                    </a:lnTo>
                    <a:lnTo>
                      <a:pt x="130" y="1039"/>
                    </a:lnTo>
                    <a:lnTo>
                      <a:pt x="116" y="1025"/>
                    </a:lnTo>
                    <a:lnTo>
                      <a:pt x="102" y="1012"/>
                    </a:lnTo>
                    <a:lnTo>
                      <a:pt x="91" y="998"/>
                    </a:lnTo>
                    <a:lnTo>
                      <a:pt x="83" y="984"/>
                    </a:lnTo>
                    <a:lnTo>
                      <a:pt x="79" y="972"/>
                    </a:lnTo>
                    <a:lnTo>
                      <a:pt x="85" y="947"/>
                    </a:lnTo>
                    <a:lnTo>
                      <a:pt x="95" y="914"/>
                    </a:lnTo>
                    <a:lnTo>
                      <a:pt x="108" y="876"/>
                    </a:lnTo>
                    <a:lnTo>
                      <a:pt x="123" y="839"/>
                    </a:lnTo>
                    <a:lnTo>
                      <a:pt x="137" y="803"/>
                    </a:lnTo>
                    <a:lnTo>
                      <a:pt x="150" y="774"/>
                    </a:lnTo>
                    <a:lnTo>
                      <a:pt x="158" y="753"/>
                    </a:lnTo>
                    <a:lnTo>
                      <a:pt x="161" y="747"/>
                    </a:lnTo>
                    <a:lnTo>
                      <a:pt x="152" y="748"/>
                    </a:lnTo>
                    <a:lnTo>
                      <a:pt x="137" y="749"/>
                    </a:lnTo>
                    <a:lnTo>
                      <a:pt x="118" y="751"/>
                    </a:lnTo>
                    <a:lnTo>
                      <a:pt x="98" y="752"/>
                    </a:lnTo>
                    <a:lnTo>
                      <a:pt x="76" y="753"/>
                    </a:lnTo>
                    <a:lnTo>
                      <a:pt x="55" y="753"/>
                    </a:lnTo>
                    <a:lnTo>
                      <a:pt x="38" y="752"/>
                    </a:lnTo>
                    <a:lnTo>
                      <a:pt x="24" y="749"/>
                    </a:lnTo>
                    <a:lnTo>
                      <a:pt x="17" y="745"/>
                    </a:lnTo>
                    <a:lnTo>
                      <a:pt x="11" y="742"/>
                    </a:lnTo>
                    <a:lnTo>
                      <a:pt x="4" y="738"/>
                    </a:lnTo>
                    <a:lnTo>
                      <a:pt x="1" y="732"/>
                    </a:lnTo>
                    <a:lnTo>
                      <a:pt x="0" y="722"/>
                    </a:lnTo>
                    <a:lnTo>
                      <a:pt x="2" y="710"/>
                    </a:lnTo>
                    <a:lnTo>
                      <a:pt x="7" y="696"/>
                    </a:lnTo>
                    <a:lnTo>
                      <a:pt x="14" y="680"/>
                    </a:lnTo>
                    <a:lnTo>
                      <a:pt x="22" y="665"/>
                    </a:lnTo>
                    <a:lnTo>
                      <a:pt x="30" y="651"/>
                    </a:lnTo>
                    <a:lnTo>
                      <a:pt x="37" y="638"/>
                    </a:lnTo>
                    <a:lnTo>
                      <a:pt x="41" y="630"/>
                    </a:lnTo>
                    <a:lnTo>
                      <a:pt x="53" y="605"/>
                    </a:lnTo>
                    <a:lnTo>
                      <a:pt x="65" y="581"/>
                    </a:lnTo>
                    <a:lnTo>
                      <a:pt x="77" y="556"/>
                    </a:lnTo>
                    <a:lnTo>
                      <a:pt x="87" y="531"/>
                    </a:lnTo>
                    <a:lnTo>
                      <a:pt x="98" y="506"/>
                    </a:lnTo>
                    <a:lnTo>
                      <a:pt x="106" y="480"/>
                    </a:lnTo>
                    <a:lnTo>
                      <a:pt x="110" y="454"/>
                    </a:lnTo>
                    <a:lnTo>
                      <a:pt x="113" y="425"/>
                    </a:lnTo>
                    <a:lnTo>
                      <a:pt x="115" y="380"/>
                    </a:lnTo>
                    <a:lnTo>
                      <a:pt x="114" y="335"/>
                    </a:lnTo>
                    <a:lnTo>
                      <a:pt x="112" y="289"/>
                    </a:lnTo>
                    <a:lnTo>
                      <a:pt x="114" y="245"/>
                    </a:lnTo>
                    <a:lnTo>
                      <a:pt x="118" y="229"/>
                    </a:lnTo>
                    <a:lnTo>
                      <a:pt x="125" y="215"/>
                    </a:lnTo>
                    <a:lnTo>
                      <a:pt x="133" y="201"/>
                    </a:lnTo>
                    <a:lnTo>
                      <a:pt x="143" y="188"/>
                    </a:lnTo>
                    <a:lnTo>
                      <a:pt x="329" y="23"/>
                    </a:lnTo>
                    <a:lnTo>
                      <a:pt x="340" y="18"/>
                    </a:lnTo>
                    <a:lnTo>
                      <a:pt x="350" y="12"/>
                    </a:lnTo>
                    <a:lnTo>
                      <a:pt x="360" y="8"/>
                    </a:lnTo>
                    <a:lnTo>
                      <a:pt x="372" y="4"/>
                    </a:lnTo>
                    <a:lnTo>
                      <a:pt x="382" y="1"/>
                    </a:lnTo>
                    <a:lnTo>
                      <a:pt x="394" y="0"/>
                    </a:lnTo>
                    <a:lnTo>
                      <a:pt x="407" y="1"/>
                    </a:lnTo>
                    <a:lnTo>
                      <a:pt x="418" y="4"/>
                    </a:lnTo>
                    <a:lnTo>
                      <a:pt x="428" y="11"/>
                    </a:lnTo>
                    <a:lnTo>
                      <a:pt x="446" y="23"/>
                    </a:lnTo>
                    <a:lnTo>
                      <a:pt x="465" y="39"/>
                    </a:lnTo>
                    <a:lnTo>
                      <a:pt x="488" y="56"/>
                    </a:lnTo>
                    <a:lnTo>
                      <a:pt x="510" y="74"/>
                    </a:lnTo>
                    <a:lnTo>
                      <a:pt x="531" y="87"/>
                    </a:lnTo>
                    <a:lnTo>
                      <a:pt x="548" y="98"/>
                    </a:lnTo>
                    <a:lnTo>
                      <a:pt x="561" y="101"/>
                    </a:lnTo>
                    <a:lnTo>
                      <a:pt x="568" y="100"/>
                    </a:lnTo>
                    <a:lnTo>
                      <a:pt x="578" y="98"/>
                    </a:lnTo>
                    <a:lnTo>
                      <a:pt x="591" y="95"/>
                    </a:lnTo>
                    <a:lnTo>
                      <a:pt x="606" y="92"/>
                    </a:lnTo>
                    <a:lnTo>
                      <a:pt x="623" y="88"/>
                    </a:lnTo>
                    <a:lnTo>
                      <a:pt x="640" y="84"/>
                    </a:lnTo>
                    <a:lnTo>
                      <a:pt x="659" y="80"/>
                    </a:lnTo>
                    <a:lnTo>
                      <a:pt x="678" y="76"/>
                    </a:lnTo>
                    <a:lnTo>
                      <a:pt x="697" y="72"/>
                    </a:lnTo>
                    <a:lnTo>
                      <a:pt x="714" y="68"/>
                    </a:lnTo>
                    <a:lnTo>
                      <a:pt x="730" y="65"/>
                    </a:lnTo>
                    <a:lnTo>
                      <a:pt x="745" y="63"/>
                    </a:lnTo>
                    <a:lnTo>
                      <a:pt x="758" y="62"/>
                    </a:lnTo>
                    <a:lnTo>
                      <a:pt x="767" y="61"/>
                    </a:lnTo>
                    <a:lnTo>
                      <a:pt x="773" y="62"/>
                    </a:lnTo>
                    <a:lnTo>
                      <a:pt x="775" y="64"/>
                    </a:lnTo>
                    <a:lnTo>
                      <a:pt x="771" y="68"/>
                    </a:lnTo>
                    <a:lnTo>
                      <a:pt x="760" y="75"/>
                    </a:lnTo>
                    <a:lnTo>
                      <a:pt x="745" y="84"/>
                    </a:lnTo>
                    <a:lnTo>
                      <a:pt x="727" y="94"/>
                    </a:lnTo>
                    <a:lnTo>
                      <a:pt x="707" y="105"/>
                    </a:lnTo>
                    <a:lnTo>
                      <a:pt x="689" y="116"/>
                    </a:lnTo>
                    <a:lnTo>
                      <a:pt x="674" y="125"/>
                    </a:lnTo>
                    <a:lnTo>
                      <a:pt x="663" y="132"/>
                    </a:lnTo>
                    <a:lnTo>
                      <a:pt x="655" y="138"/>
                    </a:lnTo>
                    <a:lnTo>
                      <a:pt x="647" y="144"/>
                    </a:lnTo>
                    <a:lnTo>
                      <a:pt x="639" y="150"/>
                    </a:lnTo>
                    <a:lnTo>
                      <a:pt x="631" y="156"/>
                    </a:lnTo>
                    <a:lnTo>
                      <a:pt x="623" y="162"/>
                    </a:lnTo>
                    <a:lnTo>
                      <a:pt x="616" y="169"/>
                    </a:lnTo>
                    <a:lnTo>
                      <a:pt x="608" y="175"/>
                    </a:lnTo>
                    <a:lnTo>
                      <a:pt x="600" y="182"/>
                    </a:lnTo>
                    <a:lnTo>
                      <a:pt x="560" y="234"/>
                    </a:lnTo>
                    <a:lnTo>
                      <a:pt x="557" y="239"/>
                    </a:lnTo>
                    <a:lnTo>
                      <a:pt x="549" y="252"/>
                    </a:lnTo>
                    <a:lnTo>
                      <a:pt x="539" y="272"/>
                    </a:lnTo>
                    <a:lnTo>
                      <a:pt x="525" y="295"/>
                    </a:lnTo>
                    <a:lnTo>
                      <a:pt x="511" y="318"/>
                    </a:lnTo>
                    <a:lnTo>
                      <a:pt x="496" y="339"/>
                    </a:lnTo>
                    <a:lnTo>
                      <a:pt x="484" y="354"/>
                    </a:lnTo>
                    <a:lnTo>
                      <a:pt x="473" y="360"/>
                    </a:lnTo>
                    <a:lnTo>
                      <a:pt x="468" y="362"/>
                    </a:lnTo>
                    <a:lnTo>
                      <a:pt x="457" y="358"/>
                    </a:lnTo>
                    <a:lnTo>
                      <a:pt x="448" y="352"/>
                    </a:lnTo>
                    <a:lnTo>
                      <a:pt x="446" y="344"/>
                    </a:lnTo>
                    <a:lnTo>
                      <a:pt x="451" y="341"/>
                    </a:lnTo>
                    <a:lnTo>
                      <a:pt x="457" y="341"/>
                    </a:lnTo>
                    <a:lnTo>
                      <a:pt x="463" y="341"/>
                    </a:lnTo>
                    <a:lnTo>
                      <a:pt x="469" y="336"/>
                    </a:lnTo>
                    <a:lnTo>
                      <a:pt x="476" y="327"/>
                    </a:lnTo>
                    <a:lnTo>
                      <a:pt x="485" y="312"/>
                    </a:lnTo>
                    <a:lnTo>
                      <a:pt x="498" y="294"/>
                    </a:lnTo>
                    <a:lnTo>
                      <a:pt x="510" y="273"/>
                    </a:lnTo>
                    <a:lnTo>
                      <a:pt x="524" y="252"/>
                    </a:lnTo>
                    <a:lnTo>
                      <a:pt x="537" y="233"/>
                    </a:lnTo>
                    <a:lnTo>
                      <a:pt x="548" y="215"/>
                    </a:lnTo>
                    <a:lnTo>
                      <a:pt x="556" y="203"/>
                    </a:lnTo>
                    <a:lnTo>
                      <a:pt x="562" y="195"/>
                    </a:lnTo>
                    <a:lnTo>
                      <a:pt x="571" y="183"/>
                    </a:lnTo>
                    <a:lnTo>
                      <a:pt x="583" y="169"/>
                    </a:lnTo>
                    <a:lnTo>
                      <a:pt x="597" y="155"/>
                    </a:lnTo>
                    <a:lnTo>
                      <a:pt x="609" y="143"/>
                    </a:lnTo>
                    <a:lnTo>
                      <a:pt x="620" y="132"/>
                    </a:lnTo>
                    <a:lnTo>
                      <a:pt x="628" y="124"/>
                    </a:lnTo>
                    <a:lnTo>
                      <a:pt x="630" y="122"/>
                    </a:lnTo>
                    <a:lnTo>
                      <a:pt x="630" y="122"/>
                    </a:lnTo>
                    <a:lnTo>
                      <a:pt x="630" y="122"/>
                    </a:lnTo>
                    <a:lnTo>
                      <a:pt x="630" y="122"/>
                    </a:lnTo>
                    <a:lnTo>
                      <a:pt x="631" y="122"/>
                    </a:lnTo>
                    <a:lnTo>
                      <a:pt x="622" y="122"/>
                    </a:lnTo>
                    <a:lnTo>
                      <a:pt x="613" y="123"/>
                    </a:lnTo>
                    <a:lnTo>
                      <a:pt x="604" y="125"/>
                    </a:lnTo>
                    <a:lnTo>
                      <a:pt x="594" y="127"/>
                    </a:lnTo>
                    <a:lnTo>
                      <a:pt x="585" y="129"/>
                    </a:lnTo>
                    <a:lnTo>
                      <a:pt x="576" y="130"/>
                    </a:lnTo>
                    <a:lnTo>
                      <a:pt x="567" y="131"/>
                    </a:lnTo>
                    <a:lnTo>
                      <a:pt x="557" y="132"/>
                    </a:lnTo>
                    <a:lnTo>
                      <a:pt x="549" y="133"/>
                    </a:lnTo>
                    <a:lnTo>
                      <a:pt x="541" y="133"/>
                    </a:lnTo>
                    <a:lnTo>
                      <a:pt x="534" y="132"/>
                    </a:lnTo>
                    <a:lnTo>
                      <a:pt x="529" y="129"/>
                    </a:lnTo>
                    <a:lnTo>
                      <a:pt x="517" y="121"/>
                    </a:lnTo>
                    <a:lnTo>
                      <a:pt x="501" y="109"/>
                    </a:lnTo>
                    <a:lnTo>
                      <a:pt x="481" y="94"/>
                    </a:lnTo>
                    <a:lnTo>
                      <a:pt x="461" y="78"/>
                    </a:lnTo>
                    <a:lnTo>
                      <a:pt x="440" y="62"/>
                    </a:lnTo>
                    <a:lnTo>
                      <a:pt x="420" y="48"/>
                    </a:lnTo>
                    <a:lnTo>
                      <a:pt x="403" y="37"/>
                    </a:lnTo>
                    <a:lnTo>
                      <a:pt x="390" y="31"/>
                    </a:lnTo>
                    <a:lnTo>
                      <a:pt x="379" y="35"/>
                    </a:lnTo>
                    <a:lnTo>
                      <a:pt x="367" y="40"/>
                    </a:lnTo>
                    <a:lnTo>
                      <a:pt x="356" y="46"/>
                    </a:lnTo>
                    <a:lnTo>
                      <a:pt x="344" y="52"/>
                    </a:lnTo>
                    <a:lnTo>
                      <a:pt x="333" y="59"/>
                    </a:lnTo>
                    <a:lnTo>
                      <a:pt x="321" y="65"/>
                    </a:lnTo>
                    <a:lnTo>
                      <a:pt x="311" y="72"/>
                    </a:lnTo>
                    <a:lnTo>
                      <a:pt x="299" y="79"/>
                    </a:lnTo>
                    <a:lnTo>
                      <a:pt x="294" y="85"/>
                    </a:lnTo>
                    <a:lnTo>
                      <a:pt x="279" y="100"/>
                    </a:lnTo>
                    <a:lnTo>
                      <a:pt x="258" y="121"/>
                    </a:lnTo>
                    <a:lnTo>
                      <a:pt x="233" y="147"/>
                    </a:lnTo>
                    <a:lnTo>
                      <a:pt x="207" y="175"/>
                    </a:lnTo>
                    <a:lnTo>
                      <a:pt x="183" y="201"/>
                    </a:lnTo>
                    <a:lnTo>
                      <a:pt x="163" y="226"/>
                    </a:lnTo>
                    <a:lnTo>
                      <a:pt x="151" y="243"/>
                    </a:lnTo>
                    <a:lnTo>
                      <a:pt x="142" y="273"/>
                    </a:lnTo>
                    <a:lnTo>
                      <a:pt x="145" y="297"/>
                    </a:lnTo>
                    <a:lnTo>
                      <a:pt x="150" y="322"/>
                    </a:lnTo>
                    <a:lnTo>
                      <a:pt x="153" y="347"/>
                    </a:lnTo>
                    <a:lnTo>
                      <a:pt x="153" y="372"/>
                    </a:lnTo>
                    <a:lnTo>
                      <a:pt x="155" y="396"/>
                    </a:lnTo>
                    <a:lnTo>
                      <a:pt x="158" y="422"/>
                    </a:lnTo>
                    <a:lnTo>
                      <a:pt x="156" y="446"/>
                    </a:lnTo>
                    <a:lnTo>
                      <a:pt x="151" y="469"/>
                    </a:lnTo>
                    <a:lnTo>
                      <a:pt x="145" y="490"/>
                    </a:lnTo>
                    <a:lnTo>
                      <a:pt x="137" y="510"/>
                    </a:lnTo>
                    <a:lnTo>
                      <a:pt x="129" y="530"/>
                    </a:lnTo>
                    <a:lnTo>
                      <a:pt x="120" y="549"/>
                    </a:lnTo>
                    <a:lnTo>
                      <a:pt x="110" y="569"/>
                    </a:lnTo>
                    <a:lnTo>
                      <a:pt x="100" y="589"/>
                    </a:lnTo>
                    <a:lnTo>
                      <a:pt x="90" y="607"/>
                    </a:lnTo>
                    <a:lnTo>
                      <a:pt x="78" y="627"/>
                    </a:lnTo>
                    <a:lnTo>
                      <a:pt x="72" y="637"/>
                    </a:lnTo>
                    <a:lnTo>
                      <a:pt x="65" y="649"/>
                    </a:lnTo>
                    <a:lnTo>
                      <a:pt x="59" y="659"/>
                    </a:lnTo>
                    <a:lnTo>
                      <a:pt x="52" y="669"/>
                    </a:lnTo>
                    <a:lnTo>
                      <a:pt x="45" y="681"/>
                    </a:lnTo>
                    <a:lnTo>
                      <a:pt x="38" y="691"/>
                    </a:lnTo>
                    <a:lnTo>
                      <a:pt x="31" y="703"/>
                    </a:lnTo>
                    <a:lnTo>
                      <a:pt x="25" y="714"/>
                    </a:lnTo>
                    <a:lnTo>
                      <a:pt x="29" y="717"/>
                    </a:lnTo>
                    <a:lnTo>
                      <a:pt x="40" y="718"/>
                    </a:lnTo>
                    <a:lnTo>
                      <a:pt x="59" y="718"/>
                    </a:lnTo>
                    <a:lnTo>
                      <a:pt x="80" y="717"/>
                    </a:lnTo>
                    <a:lnTo>
                      <a:pt x="105" y="714"/>
                    </a:lnTo>
                    <a:lnTo>
                      <a:pt x="129" y="712"/>
                    </a:lnTo>
                    <a:lnTo>
                      <a:pt x="152" y="709"/>
                    </a:lnTo>
                    <a:lnTo>
                      <a:pt x="170" y="704"/>
                    </a:lnTo>
                    <a:lnTo>
                      <a:pt x="178" y="702"/>
                    </a:lnTo>
                    <a:lnTo>
                      <a:pt x="188" y="698"/>
                    </a:lnTo>
                    <a:lnTo>
                      <a:pt x="198" y="695"/>
                    </a:lnTo>
                    <a:lnTo>
                      <a:pt x="208" y="690"/>
                    </a:lnTo>
                    <a:lnTo>
                      <a:pt x="219" y="685"/>
                    </a:lnTo>
                    <a:lnTo>
                      <a:pt x="228" y="682"/>
                    </a:lnTo>
                    <a:lnTo>
                      <a:pt x="235" y="679"/>
                    </a:lnTo>
                    <a:lnTo>
                      <a:pt x="239" y="677"/>
                    </a:lnTo>
                    <a:lnTo>
                      <a:pt x="249" y="673"/>
                    </a:lnTo>
                    <a:lnTo>
                      <a:pt x="261" y="665"/>
                    </a:lnTo>
                    <a:lnTo>
                      <a:pt x="276" y="654"/>
                    </a:lnTo>
                    <a:lnTo>
                      <a:pt x="294" y="643"/>
                    </a:lnTo>
                    <a:lnTo>
                      <a:pt x="310" y="630"/>
                    </a:lnTo>
                    <a:lnTo>
                      <a:pt x="325" y="617"/>
                    </a:lnTo>
                    <a:lnTo>
                      <a:pt x="336" y="607"/>
                    </a:lnTo>
                    <a:lnTo>
                      <a:pt x="344" y="598"/>
                    </a:lnTo>
                    <a:lnTo>
                      <a:pt x="352" y="586"/>
                    </a:lnTo>
                    <a:lnTo>
                      <a:pt x="365" y="569"/>
                    </a:lnTo>
                    <a:lnTo>
                      <a:pt x="380" y="548"/>
                    </a:lnTo>
                    <a:lnTo>
                      <a:pt x="395" y="526"/>
                    </a:lnTo>
                    <a:lnTo>
                      <a:pt x="410" y="505"/>
                    </a:lnTo>
                    <a:lnTo>
                      <a:pt x="423" y="487"/>
                    </a:lnTo>
                    <a:lnTo>
                      <a:pt x="431" y="475"/>
                    </a:lnTo>
                    <a:lnTo>
                      <a:pt x="434" y="470"/>
                    </a:lnTo>
                    <a:lnTo>
                      <a:pt x="442" y="457"/>
                    </a:lnTo>
                    <a:lnTo>
                      <a:pt x="450" y="445"/>
                    </a:lnTo>
                    <a:lnTo>
                      <a:pt x="460" y="433"/>
                    </a:lnTo>
                    <a:lnTo>
                      <a:pt x="469" y="420"/>
                    </a:lnTo>
                    <a:lnTo>
                      <a:pt x="478" y="409"/>
                    </a:lnTo>
                    <a:lnTo>
                      <a:pt x="487" y="397"/>
                    </a:lnTo>
                    <a:lnTo>
                      <a:pt x="495" y="385"/>
                    </a:lnTo>
                    <a:lnTo>
                      <a:pt x="503" y="372"/>
                    </a:lnTo>
                    <a:lnTo>
                      <a:pt x="518" y="354"/>
                    </a:lnTo>
                    <a:lnTo>
                      <a:pt x="533" y="335"/>
                    </a:lnTo>
                    <a:lnTo>
                      <a:pt x="548" y="317"/>
                    </a:lnTo>
                    <a:lnTo>
                      <a:pt x="563" y="298"/>
                    </a:lnTo>
                    <a:lnTo>
                      <a:pt x="578" y="280"/>
                    </a:lnTo>
                    <a:lnTo>
                      <a:pt x="592" y="260"/>
                    </a:lnTo>
                    <a:lnTo>
                      <a:pt x="606" y="242"/>
                    </a:lnTo>
                    <a:lnTo>
                      <a:pt x="620" y="222"/>
                    </a:lnTo>
                    <a:lnTo>
                      <a:pt x="725" y="115"/>
                    </a:lnTo>
                    <a:lnTo>
                      <a:pt x="738" y="107"/>
                    </a:lnTo>
                    <a:lnTo>
                      <a:pt x="752" y="99"/>
                    </a:lnTo>
                    <a:lnTo>
                      <a:pt x="766" y="90"/>
                    </a:lnTo>
                    <a:lnTo>
                      <a:pt x="780" y="82"/>
                    </a:lnTo>
                    <a:lnTo>
                      <a:pt x="794" y="74"/>
                    </a:lnTo>
                    <a:lnTo>
                      <a:pt x="807" y="67"/>
                    </a:lnTo>
                    <a:lnTo>
                      <a:pt x="822" y="60"/>
                    </a:lnTo>
                    <a:lnTo>
                      <a:pt x="837" y="55"/>
                    </a:lnTo>
                    <a:lnTo>
                      <a:pt x="845" y="55"/>
                    </a:lnTo>
                    <a:lnTo>
                      <a:pt x="854" y="54"/>
                    </a:lnTo>
                    <a:lnTo>
                      <a:pt x="862" y="56"/>
                    </a:lnTo>
                    <a:lnTo>
                      <a:pt x="867" y="61"/>
                    </a:lnTo>
                    <a:lnTo>
                      <a:pt x="870" y="68"/>
                    </a:lnTo>
                    <a:lnTo>
                      <a:pt x="870" y="77"/>
                    </a:lnTo>
                    <a:lnTo>
                      <a:pt x="866" y="90"/>
                    </a:lnTo>
                    <a:lnTo>
                      <a:pt x="860" y="103"/>
                    </a:lnTo>
                    <a:lnTo>
                      <a:pt x="855" y="118"/>
                    </a:lnTo>
                    <a:lnTo>
                      <a:pt x="848" y="131"/>
                    </a:lnTo>
                    <a:lnTo>
                      <a:pt x="842" y="141"/>
                    </a:lnTo>
                    <a:lnTo>
                      <a:pt x="836" y="150"/>
                    </a:lnTo>
                    <a:lnTo>
                      <a:pt x="831" y="147"/>
                    </a:lnTo>
                    <a:lnTo>
                      <a:pt x="825" y="144"/>
                    </a:lnTo>
                    <a:lnTo>
                      <a:pt x="821" y="138"/>
                    </a:lnTo>
                    <a:lnTo>
                      <a:pt x="818" y="132"/>
                    </a:lnTo>
                    <a:lnTo>
                      <a:pt x="822" y="121"/>
                    </a:lnTo>
                    <a:lnTo>
                      <a:pt x="833" y="103"/>
                    </a:lnTo>
                    <a:lnTo>
                      <a:pt x="844" y="87"/>
                    </a:lnTo>
                    <a:lnTo>
                      <a:pt x="850" y="75"/>
                    </a:lnTo>
                    <a:lnTo>
                      <a:pt x="842" y="75"/>
                    </a:lnTo>
                    <a:lnTo>
                      <a:pt x="834" y="77"/>
                    </a:lnTo>
                    <a:lnTo>
                      <a:pt x="827" y="79"/>
                    </a:lnTo>
                    <a:lnTo>
                      <a:pt x="819" y="84"/>
                    </a:lnTo>
                    <a:lnTo>
                      <a:pt x="812" y="87"/>
                    </a:lnTo>
                    <a:lnTo>
                      <a:pt x="805" y="92"/>
                    </a:lnTo>
                    <a:lnTo>
                      <a:pt x="798" y="97"/>
                    </a:lnTo>
                    <a:lnTo>
                      <a:pt x="791" y="100"/>
                    </a:lnTo>
                    <a:lnTo>
                      <a:pt x="776" y="112"/>
                    </a:lnTo>
                    <a:lnTo>
                      <a:pt x="761" y="122"/>
                    </a:lnTo>
                    <a:lnTo>
                      <a:pt x="745" y="133"/>
                    </a:lnTo>
                    <a:lnTo>
                      <a:pt x="730" y="145"/>
                    </a:lnTo>
                    <a:lnTo>
                      <a:pt x="715" y="156"/>
                    </a:lnTo>
                    <a:lnTo>
                      <a:pt x="700" y="170"/>
                    </a:lnTo>
                    <a:lnTo>
                      <a:pt x="688" y="184"/>
                    </a:lnTo>
                    <a:lnTo>
                      <a:pt x="675" y="199"/>
                    </a:lnTo>
                    <a:lnTo>
                      <a:pt x="669" y="206"/>
                    </a:lnTo>
                    <a:lnTo>
                      <a:pt x="663" y="214"/>
                    </a:lnTo>
                    <a:lnTo>
                      <a:pt x="659" y="222"/>
                    </a:lnTo>
                    <a:lnTo>
                      <a:pt x="653" y="229"/>
                    </a:lnTo>
                    <a:lnTo>
                      <a:pt x="659" y="230"/>
                    </a:lnTo>
                    <a:lnTo>
                      <a:pt x="665" y="230"/>
                    </a:lnTo>
                    <a:lnTo>
                      <a:pt x="670" y="230"/>
                    </a:lnTo>
                    <a:lnTo>
                      <a:pt x="676" y="230"/>
                    </a:lnTo>
                    <a:lnTo>
                      <a:pt x="681" y="229"/>
                    </a:lnTo>
                    <a:lnTo>
                      <a:pt x="686" y="229"/>
                    </a:lnTo>
                    <a:lnTo>
                      <a:pt x="692" y="228"/>
                    </a:lnTo>
                    <a:lnTo>
                      <a:pt x="698" y="228"/>
                    </a:lnTo>
                    <a:lnTo>
                      <a:pt x="697" y="216"/>
                    </a:lnTo>
                    <a:lnTo>
                      <a:pt x="697" y="204"/>
                    </a:lnTo>
                    <a:lnTo>
                      <a:pt x="697" y="193"/>
                    </a:lnTo>
                    <a:lnTo>
                      <a:pt x="697" y="189"/>
                    </a:lnTo>
                    <a:lnTo>
                      <a:pt x="704" y="195"/>
                    </a:lnTo>
                    <a:lnTo>
                      <a:pt x="711" y="200"/>
                    </a:lnTo>
                    <a:lnTo>
                      <a:pt x="716" y="206"/>
                    </a:lnTo>
                    <a:lnTo>
                      <a:pt x="722" y="214"/>
                    </a:lnTo>
                    <a:lnTo>
                      <a:pt x="728" y="222"/>
                    </a:lnTo>
                    <a:lnTo>
                      <a:pt x="731" y="233"/>
                    </a:lnTo>
                    <a:lnTo>
                      <a:pt x="733" y="244"/>
                    </a:lnTo>
                    <a:lnTo>
                      <a:pt x="734" y="254"/>
                    </a:lnTo>
                    <a:lnTo>
                      <a:pt x="718" y="694"/>
                    </a:lnTo>
                    <a:lnTo>
                      <a:pt x="719" y="723"/>
                    </a:lnTo>
                    <a:lnTo>
                      <a:pt x="722" y="753"/>
                    </a:lnTo>
                    <a:lnTo>
                      <a:pt x="729" y="782"/>
                    </a:lnTo>
                    <a:lnTo>
                      <a:pt x="741" y="809"/>
                    </a:lnTo>
                    <a:lnTo>
                      <a:pt x="745" y="817"/>
                    </a:lnTo>
                    <a:lnTo>
                      <a:pt x="750" y="824"/>
                    </a:lnTo>
                    <a:lnTo>
                      <a:pt x="756" y="830"/>
                    </a:lnTo>
                    <a:lnTo>
                      <a:pt x="763" y="836"/>
                    </a:lnTo>
                    <a:lnTo>
                      <a:pt x="769" y="842"/>
                    </a:lnTo>
                    <a:lnTo>
                      <a:pt x="778" y="847"/>
                    </a:lnTo>
                    <a:lnTo>
                      <a:pt x="786" y="851"/>
                    </a:lnTo>
                    <a:lnTo>
                      <a:pt x="792" y="855"/>
                    </a:lnTo>
                    <a:lnTo>
                      <a:pt x="809" y="863"/>
                    </a:lnTo>
                    <a:lnTo>
                      <a:pt x="824" y="870"/>
                    </a:lnTo>
                    <a:lnTo>
                      <a:pt x="839" y="877"/>
                    </a:lnTo>
                    <a:lnTo>
                      <a:pt x="852" y="883"/>
                    </a:lnTo>
                    <a:lnTo>
                      <a:pt x="867" y="888"/>
                    </a:lnTo>
                    <a:lnTo>
                      <a:pt x="881" y="893"/>
                    </a:lnTo>
                    <a:lnTo>
                      <a:pt x="895" y="899"/>
                    </a:lnTo>
                    <a:lnTo>
                      <a:pt x="909" y="904"/>
                    </a:lnTo>
                    <a:lnTo>
                      <a:pt x="941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22880" y="4443840"/>
                <a:ext cx="355680" cy="745560"/>
              </a:xfrm>
              <a:custGeom>
                <a:avLst/>
                <a:gdLst/>
                <a:ahLst/>
                <a:rect l="l" t="t" r="r" b="b"/>
                <a:pathLst>
                  <a:path w="376" h="767">
                    <a:moveTo>
                      <a:pt x="122" y="56"/>
                    </a:moveTo>
                    <a:lnTo>
                      <a:pt x="122" y="126"/>
                    </a:lnTo>
                    <a:lnTo>
                      <a:pt x="124" y="285"/>
                    </a:lnTo>
                    <a:lnTo>
                      <a:pt x="126" y="448"/>
                    </a:lnTo>
                    <a:lnTo>
                      <a:pt x="131" y="535"/>
                    </a:lnTo>
                    <a:lnTo>
                      <a:pt x="136" y="544"/>
                    </a:lnTo>
                    <a:lnTo>
                      <a:pt x="142" y="549"/>
                    </a:lnTo>
                    <a:lnTo>
                      <a:pt x="149" y="554"/>
                    </a:lnTo>
                    <a:lnTo>
                      <a:pt x="157" y="559"/>
                    </a:lnTo>
                    <a:lnTo>
                      <a:pt x="167" y="561"/>
                    </a:lnTo>
                    <a:lnTo>
                      <a:pt x="176" y="564"/>
                    </a:lnTo>
                    <a:lnTo>
                      <a:pt x="184" y="567"/>
                    </a:lnTo>
                    <a:lnTo>
                      <a:pt x="193" y="569"/>
                    </a:lnTo>
                    <a:lnTo>
                      <a:pt x="246" y="569"/>
                    </a:lnTo>
                    <a:lnTo>
                      <a:pt x="269" y="570"/>
                    </a:lnTo>
                    <a:lnTo>
                      <a:pt x="292" y="576"/>
                    </a:lnTo>
                    <a:lnTo>
                      <a:pt x="313" y="586"/>
                    </a:lnTo>
                    <a:lnTo>
                      <a:pt x="331" y="598"/>
                    </a:lnTo>
                    <a:lnTo>
                      <a:pt x="348" y="612"/>
                    </a:lnTo>
                    <a:lnTo>
                      <a:pt x="360" y="625"/>
                    </a:lnTo>
                    <a:lnTo>
                      <a:pt x="369" y="640"/>
                    </a:lnTo>
                    <a:lnTo>
                      <a:pt x="374" y="654"/>
                    </a:lnTo>
                    <a:lnTo>
                      <a:pt x="376" y="677"/>
                    </a:lnTo>
                    <a:lnTo>
                      <a:pt x="375" y="709"/>
                    </a:lnTo>
                    <a:lnTo>
                      <a:pt x="372" y="738"/>
                    </a:lnTo>
                    <a:lnTo>
                      <a:pt x="363" y="753"/>
                    </a:lnTo>
                    <a:lnTo>
                      <a:pt x="346" y="757"/>
                    </a:lnTo>
                    <a:lnTo>
                      <a:pt x="323" y="759"/>
                    </a:lnTo>
                    <a:lnTo>
                      <a:pt x="297" y="763"/>
                    </a:lnTo>
                    <a:lnTo>
                      <a:pt x="269" y="764"/>
                    </a:lnTo>
                    <a:lnTo>
                      <a:pt x="243" y="766"/>
                    </a:lnTo>
                    <a:lnTo>
                      <a:pt x="221" y="767"/>
                    </a:lnTo>
                    <a:lnTo>
                      <a:pt x="206" y="767"/>
                    </a:lnTo>
                    <a:lnTo>
                      <a:pt x="200" y="767"/>
                    </a:lnTo>
                    <a:lnTo>
                      <a:pt x="186" y="757"/>
                    </a:lnTo>
                    <a:lnTo>
                      <a:pt x="356" y="738"/>
                    </a:lnTo>
                    <a:lnTo>
                      <a:pt x="356" y="727"/>
                    </a:lnTo>
                    <a:lnTo>
                      <a:pt x="348" y="728"/>
                    </a:lnTo>
                    <a:lnTo>
                      <a:pt x="328" y="729"/>
                    </a:lnTo>
                    <a:lnTo>
                      <a:pt x="301" y="731"/>
                    </a:lnTo>
                    <a:lnTo>
                      <a:pt x="273" y="734"/>
                    </a:lnTo>
                    <a:lnTo>
                      <a:pt x="243" y="737"/>
                    </a:lnTo>
                    <a:lnTo>
                      <a:pt x="217" y="739"/>
                    </a:lnTo>
                    <a:lnTo>
                      <a:pt x="199" y="741"/>
                    </a:lnTo>
                    <a:lnTo>
                      <a:pt x="192" y="742"/>
                    </a:lnTo>
                    <a:lnTo>
                      <a:pt x="185" y="739"/>
                    </a:lnTo>
                    <a:lnTo>
                      <a:pt x="176" y="737"/>
                    </a:lnTo>
                    <a:lnTo>
                      <a:pt x="167" y="734"/>
                    </a:lnTo>
                    <a:lnTo>
                      <a:pt x="157" y="730"/>
                    </a:lnTo>
                    <a:lnTo>
                      <a:pt x="149" y="728"/>
                    </a:lnTo>
                    <a:lnTo>
                      <a:pt x="142" y="724"/>
                    </a:lnTo>
                    <a:lnTo>
                      <a:pt x="137" y="722"/>
                    </a:lnTo>
                    <a:lnTo>
                      <a:pt x="136" y="720"/>
                    </a:lnTo>
                    <a:lnTo>
                      <a:pt x="146" y="720"/>
                    </a:lnTo>
                    <a:lnTo>
                      <a:pt x="159" y="721"/>
                    </a:lnTo>
                    <a:lnTo>
                      <a:pt x="172" y="721"/>
                    </a:lnTo>
                    <a:lnTo>
                      <a:pt x="189" y="720"/>
                    </a:lnTo>
                    <a:lnTo>
                      <a:pt x="205" y="720"/>
                    </a:lnTo>
                    <a:lnTo>
                      <a:pt x="222" y="720"/>
                    </a:lnTo>
                    <a:lnTo>
                      <a:pt x="240" y="719"/>
                    </a:lnTo>
                    <a:lnTo>
                      <a:pt x="258" y="719"/>
                    </a:lnTo>
                    <a:lnTo>
                      <a:pt x="275" y="718"/>
                    </a:lnTo>
                    <a:lnTo>
                      <a:pt x="291" y="716"/>
                    </a:lnTo>
                    <a:lnTo>
                      <a:pt x="306" y="714"/>
                    </a:lnTo>
                    <a:lnTo>
                      <a:pt x="319" y="713"/>
                    </a:lnTo>
                    <a:lnTo>
                      <a:pt x="330" y="711"/>
                    </a:lnTo>
                    <a:lnTo>
                      <a:pt x="339" y="708"/>
                    </a:lnTo>
                    <a:lnTo>
                      <a:pt x="346" y="706"/>
                    </a:lnTo>
                    <a:lnTo>
                      <a:pt x="350" y="704"/>
                    </a:lnTo>
                    <a:lnTo>
                      <a:pt x="350" y="676"/>
                    </a:lnTo>
                    <a:lnTo>
                      <a:pt x="343" y="653"/>
                    </a:lnTo>
                    <a:lnTo>
                      <a:pt x="331" y="635"/>
                    </a:lnTo>
                    <a:lnTo>
                      <a:pt x="318" y="621"/>
                    </a:lnTo>
                    <a:lnTo>
                      <a:pt x="303" y="610"/>
                    </a:lnTo>
                    <a:lnTo>
                      <a:pt x="290" y="603"/>
                    </a:lnTo>
                    <a:lnTo>
                      <a:pt x="280" y="600"/>
                    </a:lnTo>
                    <a:lnTo>
                      <a:pt x="274" y="600"/>
                    </a:lnTo>
                    <a:lnTo>
                      <a:pt x="262" y="608"/>
                    </a:lnTo>
                    <a:lnTo>
                      <a:pt x="251" y="620"/>
                    </a:lnTo>
                    <a:lnTo>
                      <a:pt x="240" y="632"/>
                    </a:lnTo>
                    <a:lnTo>
                      <a:pt x="230" y="647"/>
                    </a:lnTo>
                    <a:lnTo>
                      <a:pt x="221" y="660"/>
                    </a:lnTo>
                    <a:lnTo>
                      <a:pt x="214" y="671"/>
                    </a:lnTo>
                    <a:lnTo>
                      <a:pt x="209" y="680"/>
                    </a:lnTo>
                    <a:lnTo>
                      <a:pt x="207" y="682"/>
                    </a:lnTo>
                    <a:lnTo>
                      <a:pt x="204" y="680"/>
                    </a:lnTo>
                    <a:lnTo>
                      <a:pt x="200" y="678"/>
                    </a:lnTo>
                    <a:lnTo>
                      <a:pt x="198" y="676"/>
                    </a:lnTo>
                    <a:lnTo>
                      <a:pt x="197" y="671"/>
                    </a:lnTo>
                    <a:lnTo>
                      <a:pt x="198" y="666"/>
                    </a:lnTo>
                    <a:lnTo>
                      <a:pt x="201" y="655"/>
                    </a:lnTo>
                    <a:lnTo>
                      <a:pt x="207" y="644"/>
                    </a:lnTo>
                    <a:lnTo>
                      <a:pt x="213" y="631"/>
                    </a:lnTo>
                    <a:lnTo>
                      <a:pt x="220" y="620"/>
                    </a:lnTo>
                    <a:lnTo>
                      <a:pt x="225" y="609"/>
                    </a:lnTo>
                    <a:lnTo>
                      <a:pt x="229" y="602"/>
                    </a:lnTo>
                    <a:lnTo>
                      <a:pt x="231" y="599"/>
                    </a:lnTo>
                    <a:lnTo>
                      <a:pt x="227" y="598"/>
                    </a:lnTo>
                    <a:lnTo>
                      <a:pt x="220" y="597"/>
                    </a:lnTo>
                    <a:lnTo>
                      <a:pt x="210" y="595"/>
                    </a:lnTo>
                    <a:lnTo>
                      <a:pt x="200" y="594"/>
                    </a:lnTo>
                    <a:lnTo>
                      <a:pt x="189" y="593"/>
                    </a:lnTo>
                    <a:lnTo>
                      <a:pt x="178" y="592"/>
                    </a:lnTo>
                    <a:lnTo>
                      <a:pt x="168" y="591"/>
                    </a:lnTo>
                    <a:lnTo>
                      <a:pt x="161" y="591"/>
                    </a:lnTo>
                    <a:lnTo>
                      <a:pt x="154" y="587"/>
                    </a:lnTo>
                    <a:lnTo>
                      <a:pt x="145" y="583"/>
                    </a:lnTo>
                    <a:lnTo>
                      <a:pt x="136" y="578"/>
                    </a:lnTo>
                    <a:lnTo>
                      <a:pt x="130" y="575"/>
                    </a:lnTo>
                    <a:lnTo>
                      <a:pt x="122" y="565"/>
                    </a:lnTo>
                    <a:lnTo>
                      <a:pt x="115" y="556"/>
                    </a:lnTo>
                    <a:lnTo>
                      <a:pt x="109" y="546"/>
                    </a:lnTo>
                    <a:lnTo>
                      <a:pt x="106" y="534"/>
                    </a:lnTo>
                    <a:lnTo>
                      <a:pt x="102" y="523"/>
                    </a:lnTo>
                    <a:lnTo>
                      <a:pt x="100" y="511"/>
                    </a:lnTo>
                    <a:lnTo>
                      <a:pt x="96" y="500"/>
                    </a:lnTo>
                    <a:lnTo>
                      <a:pt x="94" y="488"/>
                    </a:lnTo>
                    <a:lnTo>
                      <a:pt x="92" y="79"/>
                    </a:lnTo>
                    <a:lnTo>
                      <a:pt x="83" y="80"/>
                    </a:lnTo>
                    <a:lnTo>
                      <a:pt x="74" y="83"/>
                    </a:lnTo>
                    <a:lnTo>
                      <a:pt x="65" y="84"/>
                    </a:lnTo>
                    <a:lnTo>
                      <a:pt x="56" y="86"/>
                    </a:lnTo>
                    <a:lnTo>
                      <a:pt x="48" y="88"/>
                    </a:lnTo>
                    <a:lnTo>
                      <a:pt x="39" y="91"/>
                    </a:lnTo>
                    <a:lnTo>
                      <a:pt x="30" y="92"/>
                    </a:lnTo>
                    <a:lnTo>
                      <a:pt x="20" y="93"/>
                    </a:lnTo>
                    <a:lnTo>
                      <a:pt x="13" y="91"/>
                    </a:lnTo>
                    <a:lnTo>
                      <a:pt x="6" y="84"/>
                    </a:lnTo>
                    <a:lnTo>
                      <a:pt x="1" y="77"/>
                    </a:lnTo>
                    <a:lnTo>
                      <a:pt x="0" y="72"/>
                    </a:lnTo>
                    <a:lnTo>
                      <a:pt x="4" y="71"/>
                    </a:lnTo>
                    <a:lnTo>
                      <a:pt x="13" y="69"/>
                    </a:lnTo>
                    <a:lnTo>
                      <a:pt x="25" y="64"/>
                    </a:lnTo>
                    <a:lnTo>
                      <a:pt x="38" y="60"/>
                    </a:lnTo>
                    <a:lnTo>
                      <a:pt x="51" y="56"/>
                    </a:lnTo>
                    <a:lnTo>
                      <a:pt x="63" y="51"/>
                    </a:lnTo>
                    <a:lnTo>
                      <a:pt x="71" y="47"/>
                    </a:lnTo>
                    <a:lnTo>
                      <a:pt x="76" y="45"/>
                    </a:lnTo>
                    <a:lnTo>
                      <a:pt x="73" y="41"/>
                    </a:lnTo>
                    <a:lnTo>
                      <a:pt x="68" y="34"/>
                    </a:lnTo>
                    <a:lnTo>
                      <a:pt x="58" y="27"/>
                    </a:lnTo>
                    <a:lnTo>
                      <a:pt x="48" y="19"/>
                    </a:lnTo>
                    <a:lnTo>
                      <a:pt x="38" y="12"/>
                    </a:lnTo>
                    <a:lnTo>
                      <a:pt x="30" y="5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34" y="2"/>
                    </a:lnTo>
                    <a:lnTo>
                      <a:pt x="49" y="9"/>
                    </a:lnTo>
                    <a:lnTo>
                      <a:pt x="65" y="17"/>
                    </a:lnTo>
                    <a:lnTo>
                      <a:pt x="80" y="26"/>
                    </a:lnTo>
                    <a:lnTo>
                      <a:pt x="95" y="36"/>
                    </a:lnTo>
                    <a:lnTo>
                      <a:pt x="108" y="46"/>
                    </a:lnTo>
                    <a:lnTo>
                      <a:pt x="117" y="53"/>
                    </a:lnTo>
                    <a:lnTo>
                      <a:pt x="12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5480" y="4457520"/>
                <a:ext cx="329040" cy="327960"/>
              </a:xfrm>
              <a:custGeom>
                <a:avLst/>
                <a:gdLst/>
                <a:ahLst/>
                <a:rect l="l" t="t" r="r" b="b"/>
                <a:pathLst>
                  <a:path w="351" h="339">
                    <a:moveTo>
                      <a:pt x="176" y="231"/>
                    </a:moveTo>
                    <a:lnTo>
                      <a:pt x="171" y="236"/>
                    </a:lnTo>
                    <a:lnTo>
                      <a:pt x="165" y="240"/>
                    </a:lnTo>
                    <a:lnTo>
                      <a:pt x="161" y="245"/>
                    </a:lnTo>
                    <a:lnTo>
                      <a:pt x="155" y="250"/>
                    </a:lnTo>
                    <a:lnTo>
                      <a:pt x="149" y="255"/>
                    </a:lnTo>
                    <a:lnTo>
                      <a:pt x="144" y="260"/>
                    </a:lnTo>
                    <a:lnTo>
                      <a:pt x="139" y="265"/>
                    </a:lnTo>
                    <a:lnTo>
                      <a:pt x="134" y="270"/>
                    </a:lnTo>
                    <a:lnTo>
                      <a:pt x="118" y="282"/>
                    </a:lnTo>
                    <a:lnTo>
                      <a:pt x="97" y="293"/>
                    </a:lnTo>
                    <a:lnTo>
                      <a:pt x="75" y="306"/>
                    </a:lnTo>
                    <a:lnTo>
                      <a:pt x="53" y="316"/>
                    </a:lnTo>
                    <a:lnTo>
                      <a:pt x="34" y="327"/>
                    </a:lnTo>
                    <a:lnTo>
                      <a:pt x="17" y="335"/>
                    </a:lnTo>
                    <a:lnTo>
                      <a:pt x="5" y="339"/>
                    </a:lnTo>
                    <a:lnTo>
                      <a:pt x="0" y="339"/>
                    </a:lnTo>
                    <a:lnTo>
                      <a:pt x="5" y="333"/>
                    </a:lnTo>
                    <a:lnTo>
                      <a:pt x="17" y="323"/>
                    </a:lnTo>
                    <a:lnTo>
                      <a:pt x="34" y="310"/>
                    </a:lnTo>
                    <a:lnTo>
                      <a:pt x="55" y="297"/>
                    </a:lnTo>
                    <a:lnTo>
                      <a:pt x="75" y="280"/>
                    </a:lnTo>
                    <a:lnTo>
                      <a:pt x="97" y="265"/>
                    </a:lnTo>
                    <a:lnTo>
                      <a:pt x="117" y="253"/>
                    </a:lnTo>
                    <a:lnTo>
                      <a:pt x="132" y="241"/>
                    </a:lnTo>
                    <a:lnTo>
                      <a:pt x="134" y="239"/>
                    </a:lnTo>
                    <a:lnTo>
                      <a:pt x="140" y="232"/>
                    </a:lnTo>
                    <a:lnTo>
                      <a:pt x="148" y="222"/>
                    </a:lnTo>
                    <a:lnTo>
                      <a:pt x="161" y="208"/>
                    </a:lnTo>
                    <a:lnTo>
                      <a:pt x="173" y="192"/>
                    </a:lnTo>
                    <a:lnTo>
                      <a:pt x="189" y="173"/>
                    </a:lnTo>
                    <a:lnTo>
                      <a:pt x="206" y="154"/>
                    </a:lnTo>
                    <a:lnTo>
                      <a:pt x="223" y="134"/>
                    </a:lnTo>
                    <a:lnTo>
                      <a:pt x="240" y="113"/>
                    </a:lnTo>
                    <a:lnTo>
                      <a:pt x="257" y="94"/>
                    </a:lnTo>
                    <a:lnTo>
                      <a:pt x="274" y="74"/>
                    </a:lnTo>
                    <a:lnTo>
                      <a:pt x="289" y="58"/>
                    </a:lnTo>
                    <a:lnTo>
                      <a:pt x="301" y="43"/>
                    </a:lnTo>
                    <a:lnTo>
                      <a:pt x="312" y="30"/>
                    </a:lnTo>
                    <a:lnTo>
                      <a:pt x="318" y="22"/>
                    </a:lnTo>
                    <a:lnTo>
                      <a:pt x="323" y="18"/>
                    </a:lnTo>
                    <a:lnTo>
                      <a:pt x="329" y="15"/>
                    </a:lnTo>
                    <a:lnTo>
                      <a:pt x="337" y="10"/>
                    </a:lnTo>
                    <a:lnTo>
                      <a:pt x="345" y="4"/>
                    </a:lnTo>
                    <a:lnTo>
                      <a:pt x="351" y="0"/>
                    </a:lnTo>
                    <a:lnTo>
                      <a:pt x="344" y="11"/>
                    </a:lnTo>
                    <a:lnTo>
                      <a:pt x="324" y="37"/>
                    </a:lnTo>
                    <a:lnTo>
                      <a:pt x="297" y="74"/>
                    </a:lnTo>
                    <a:lnTo>
                      <a:pt x="264" y="116"/>
                    </a:lnTo>
                    <a:lnTo>
                      <a:pt x="232" y="158"/>
                    </a:lnTo>
                    <a:lnTo>
                      <a:pt x="203" y="195"/>
                    </a:lnTo>
                    <a:lnTo>
                      <a:pt x="184" y="221"/>
                    </a:lnTo>
                    <a:lnTo>
                      <a:pt x="176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37640" y="4550760"/>
                <a:ext cx="65520" cy="23040"/>
              </a:xfrm>
              <a:custGeom>
                <a:avLst/>
                <a:gdLst/>
                <a:ahLst/>
                <a:rect l="l" t="t" r="r" b="b"/>
                <a:pathLst>
                  <a:path w="70" h="23">
                    <a:moveTo>
                      <a:pt x="68" y="3"/>
                    </a:moveTo>
                    <a:lnTo>
                      <a:pt x="69" y="5"/>
                    </a:lnTo>
                    <a:lnTo>
                      <a:pt x="70" y="7"/>
                    </a:lnTo>
                    <a:lnTo>
                      <a:pt x="70" y="9"/>
                    </a:lnTo>
                    <a:lnTo>
                      <a:pt x="70" y="12"/>
                    </a:lnTo>
                    <a:lnTo>
                      <a:pt x="68" y="14"/>
                    </a:lnTo>
                    <a:lnTo>
                      <a:pt x="65" y="15"/>
                    </a:lnTo>
                    <a:lnTo>
                      <a:pt x="62" y="16"/>
                    </a:lnTo>
                    <a:lnTo>
                      <a:pt x="58" y="19"/>
                    </a:lnTo>
                    <a:lnTo>
                      <a:pt x="12" y="23"/>
                    </a:lnTo>
                    <a:lnTo>
                      <a:pt x="9" y="22"/>
                    </a:lnTo>
                    <a:lnTo>
                      <a:pt x="5" y="21"/>
                    </a:lnTo>
                    <a:lnTo>
                      <a:pt x="3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7" y="8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4" y="5"/>
                    </a:lnTo>
                    <a:lnTo>
                      <a:pt x="54" y="4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6" y="1"/>
                    </a:lnTo>
                    <a:lnTo>
                      <a:pt x="6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13440" y="4556520"/>
                <a:ext cx="80640" cy="24840"/>
              </a:xfrm>
              <a:custGeom>
                <a:avLst/>
                <a:gdLst/>
                <a:ahLst/>
                <a:rect l="l" t="t" r="r" b="b"/>
                <a:pathLst>
                  <a:path w="85" h="26">
                    <a:moveTo>
                      <a:pt x="84" y="0"/>
                    </a:moveTo>
                    <a:lnTo>
                      <a:pt x="85" y="5"/>
                    </a:lnTo>
                    <a:lnTo>
                      <a:pt x="85" y="10"/>
                    </a:lnTo>
                    <a:lnTo>
                      <a:pt x="85" y="15"/>
                    </a:lnTo>
                    <a:lnTo>
                      <a:pt x="85" y="20"/>
                    </a:lnTo>
                    <a:lnTo>
                      <a:pt x="80" y="22"/>
                    </a:lnTo>
                    <a:lnTo>
                      <a:pt x="74" y="23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4" y="25"/>
                    </a:lnTo>
                    <a:lnTo>
                      <a:pt x="47" y="25"/>
                    </a:lnTo>
                    <a:lnTo>
                      <a:pt x="39" y="26"/>
                    </a:lnTo>
                    <a:lnTo>
                      <a:pt x="31" y="26"/>
                    </a:lnTo>
                    <a:lnTo>
                      <a:pt x="23" y="26"/>
                    </a:lnTo>
                    <a:lnTo>
                      <a:pt x="16" y="26"/>
                    </a:lnTo>
                    <a:lnTo>
                      <a:pt x="8" y="26"/>
                    </a:lnTo>
                    <a:lnTo>
                      <a:pt x="0" y="26"/>
                    </a:lnTo>
                    <a:lnTo>
                      <a:pt x="5" y="20"/>
                    </a:lnTo>
                    <a:lnTo>
                      <a:pt x="9" y="14"/>
                    </a:lnTo>
                    <a:lnTo>
                      <a:pt x="15" y="8"/>
                    </a:lnTo>
                    <a:lnTo>
                      <a:pt x="20" y="1"/>
                    </a:lnTo>
                    <a:lnTo>
                      <a:pt x="28" y="2"/>
                    </a:lnTo>
                    <a:lnTo>
                      <a:pt x="36" y="3"/>
                    </a:lnTo>
                    <a:lnTo>
                      <a:pt x="44" y="3"/>
                    </a:lnTo>
                    <a:lnTo>
                      <a:pt x="52" y="2"/>
                    </a:lnTo>
                    <a:lnTo>
                      <a:pt x="60" y="2"/>
                    </a:lnTo>
                    <a:lnTo>
                      <a:pt x="68" y="1"/>
                    </a:lnTo>
                    <a:lnTo>
                      <a:pt x="76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15720" y="5234400"/>
                <a:ext cx="588960" cy="153000"/>
              </a:xfrm>
              <a:custGeom>
                <a:avLst/>
                <a:gdLst/>
                <a:ahLst/>
                <a:rect l="l" t="t" r="r" b="b"/>
                <a:pathLst>
                  <a:path w="625" h="157">
                    <a:moveTo>
                      <a:pt x="220" y="70"/>
                    </a:moveTo>
                    <a:lnTo>
                      <a:pt x="209" y="67"/>
                    </a:lnTo>
                    <a:lnTo>
                      <a:pt x="198" y="65"/>
                    </a:lnTo>
                    <a:lnTo>
                      <a:pt x="185" y="61"/>
                    </a:lnTo>
                    <a:lnTo>
                      <a:pt x="172" y="59"/>
                    </a:lnTo>
                    <a:lnTo>
                      <a:pt x="159" y="57"/>
                    </a:lnTo>
                    <a:lnTo>
                      <a:pt x="145" y="53"/>
                    </a:lnTo>
                    <a:lnTo>
                      <a:pt x="130" y="51"/>
                    </a:lnTo>
                    <a:lnTo>
                      <a:pt x="116" y="48"/>
                    </a:lnTo>
                    <a:lnTo>
                      <a:pt x="101" y="45"/>
                    </a:lnTo>
                    <a:lnTo>
                      <a:pt x="86" y="42"/>
                    </a:lnTo>
                    <a:lnTo>
                      <a:pt x="72" y="40"/>
                    </a:lnTo>
                    <a:lnTo>
                      <a:pt x="58" y="36"/>
                    </a:lnTo>
                    <a:lnTo>
                      <a:pt x="46" y="33"/>
                    </a:lnTo>
                    <a:lnTo>
                      <a:pt x="33" y="30"/>
                    </a:lnTo>
                    <a:lnTo>
                      <a:pt x="21" y="27"/>
                    </a:lnTo>
                    <a:lnTo>
                      <a:pt x="11" y="25"/>
                    </a:lnTo>
                    <a:lnTo>
                      <a:pt x="6" y="19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16" y="3"/>
                    </a:lnTo>
                    <a:lnTo>
                      <a:pt x="38" y="7"/>
                    </a:lnTo>
                    <a:lnTo>
                      <a:pt x="64" y="13"/>
                    </a:lnTo>
                    <a:lnTo>
                      <a:pt x="93" y="19"/>
                    </a:lnTo>
                    <a:lnTo>
                      <a:pt x="119" y="25"/>
                    </a:lnTo>
                    <a:lnTo>
                      <a:pt x="142" y="29"/>
                    </a:lnTo>
                    <a:lnTo>
                      <a:pt x="159" y="33"/>
                    </a:lnTo>
                    <a:lnTo>
                      <a:pt x="164" y="34"/>
                    </a:lnTo>
                    <a:lnTo>
                      <a:pt x="186" y="37"/>
                    </a:lnTo>
                    <a:lnTo>
                      <a:pt x="207" y="42"/>
                    </a:lnTo>
                    <a:lnTo>
                      <a:pt x="228" y="48"/>
                    </a:lnTo>
                    <a:lnTo>
                      <a:pt x="247" y="55"/>
                    </a:lnTo>
                    <a:lnTo>
                      <a:pt x="268" y="63"/>
                    </a:lnTo>
                    <a:lnTo>
                      <a:pt x="288" y="71"/>
                    </a:lnTo>
                    <a:lnTo>
                      <a:pt x="306" y="80"/>
                    </a:lnTo>
                    <a:lnTo>
                      <a:pt x="326" y="90"/>
                    </a:lnTo>
                    <a:lnTo>
                      <a:pt x="336" y="95"/>
                    </a:lnTo>
                    <a:lnTo>
                      <a:pt x="351" y="101"/>
                    </a:lnTo>
                    <a:lnTo>
                      <a:pt x="368" y="106"/>
                    </a:lnTo>
                    <a:lnTo>
                      <a:pt x="387" y="112"/>
                    </a:lnTo>
                    <a:lnTo>
                      <a:pt x="405" y="118"/>
                    </a:lnTo>
                    <a:lnTo>
                      <a:pt x="422" y="124"/>
                    </a:lnTo>
                    <a:lnTo>
                      <a:pt x="437" y="127"/>
                    </a:lnTo>
                    <a:lnTo>
                      <a:pt x="448" y="128"/>
                    </a:lnTo>
                    <a:lnTo>
                      <a:pt x="451" y="116"/>
                    </a:lnTo>
                    <a:lnTo>
                      <a:pt x="456" y="103"/>
                    </a:lnTo>
                    <a:lnTo>
                      <a:pt x="462" y="90"/>
                    </a:lnTo>
                    <a:lnTo>
                      <a:pt x="468" y="79"/>
                    </a:lnTo>
                    <a:lnTo>
                      <a:pt x="475" y="67"/>
                    </a:lnTo>
                    <a:lnTo>
                      <a:pt x="483" y="56"/>
                    </a:lnTo>
                    <a:lnTo>
                      <a:pt x="491" y="45"/>
                    </a:lnTo>
                    <a:lnTo>
                      <a:pt x="502" y="36"/>
                    </a:lnTo>
                    <a:lnTo>
                      <a:pt x="509" y="30"/>
                    </a:lnTo>
                    <a:lnTo>
                      <a:pt x="518" y="25"/>
                    </a:lnTo>
                    <a:lnTo>
                      <a:pt x="530" y="19"/>
                    </a:lnTo>
                    <a:lnTo>
                      <a:pt x="541" y="13"/>
                    </a:lnTo>
                    <a:lnTo>
                      <a:pt x="551" y="8"/>
                    </a:lnTo>
                    <a:lnTo>
                      <a:pt x="561" y="5"/>
                    </a:lnTo>
                    <a:lnTo>
                      <a:pt x="568" y="4"/>
                    </a:lnTo>
                    <a:lnTo>
                      <a:pt x="572" y="4"/>
                    </a:lnTo>
                    <a:lnTo>
                      <a:pt x="570" y="7"/>
                    </a:lnTo>
                    <a:lnTo>
                      <a:pt x="565" y="13"/>
                    </a:lnTo>
                    <a:lnTo>
                      <a:pt x="557" y="19"/>
                    </a:lnTo>
                    <a:lnTo>
                      <a:pt x="551" y="23"/>
                    </a:lnTo>
                    <a:lnTo>
                      <a:pt x="538" y="34"/>
                    </a:lnTo>
                    <a:lnTo>
                      <a:pt x="526" y="45"/>
                    </a:lnTo>
                    <a:lnTo>
                      <a:pt x="516" y="58"/>
                    </a:lnTo>
                    <a:lnTo>
                      <a:pt x="506" y="72"/>
                    </a:lnTo>
                    <a:lnTo>
                      <a:pt x="498" y="86"/>
                    </a:lnTo>
                    <a:lnTo>
                      <a:pt x="491" y="101"/>
                    </a:lnTo>
                    <a:lnTo>
                      <a:pt x="486" y="117"/>
                    </a:lnTo>
                    <a:lnTo>
                      <a:pt x="481" y="132"/>
                    </a:lnTo>
                    <a:lnTo>
                      <a:pt x="486" y="132"/>
                    </a:lnTo>
                    <a:lnTo>
                      <a:pt x="496" y="132"/>
                    </a:lnTo>
                    <a:lnTo>
                      <a:pt x="512" y="132"/>
                    </a:lnTo>
                    <a:lnTo>
                      <a:pt x="532" y="132"/>
                    </a:lnTo>
                    <a:lnTo>
                      <a:pt x="554" y="131"/>
                    </a:lnTo>
                    <a:lnTo>
                      <a:pt x="576" y="129"/>
                    </a:lnTo>
                    <a:lnTo>
                      <a:pt x="596" y="128"/>
                    </a:lnTo>
                    <a:lnTo>
                      <a:pt x="614" y="126"/>
                    </a:lnTo>
                    <a:lnTo>
                      <a:pt x="618" y="128"/>
                    </a:lnTo>
                    <a:lnTo>
                      <a:pt x="622" y="132"/>
                    </a:lnTo>
                    <a:lnTo>
                      <a:pt x="625" y="135"/>
                    </a:lnTo>
                    <a:lnTo>
                      <a:pt x="625" y="141"/>
                    </a:lnTo>
                    <a:lnTo>
                      <a:pt x="616" y="143"/>
                    </a:lnTo>
                    <a:lnTo>
                      <a:pt x="595" y="146"/>
                    </a:lnTo>
                    <a:lnTo>
                      <a:pt x="566" y="149"/>
                    </a:lnTo>
                    <a:lnTo>
                      <a:pt x="534" y="151"/>
                    </a:lnTo>
                    <a:lnTo>
                      <a:pt x="502" y="154"/>
                    </a:lnTo>
                    <a:lnTo>
                      <a:pt x="474" y="156"/>
                    </a:lnTo>
                    <a:lnTo>
                      <a:pt x="455" y="157"/>
                    </a:lnTo>
                    <a:lnTo>
                      <a:pt x="448" y="157"/>
                    </a:lnTo>
                    <a:lnTo>
                      <a:pt x="443" y="156"/>
                    </a:lnTo>
                    <a:lnTo>
                      <a:pt x="434" y="154"/>
                    </a:lnTo>
                    <a:lnTo>
                      <a:pt x="421" y="151"/>
                    </a:lnTo>
                    <a:lnTo>
                      <a:pt x="405" y="147"/>
                    </a:lnTo>
                    <a:lnTo>
                      <a:pt x="388" y="142"/>
                    </a:lnTo>
                    <a:lnTo>
                      <a:pt x="371" y="138"/>
                    </a:lnTo>
                    <a:lnTo>
                      <a:pt x="354" y="131"/>
                    </a:lnTo>
                    <a:lnTo>
                      <a:pt x="341" y="124"/>
                    </a:lnTo>
                    <a:lnTo>
                      <a:pt x="22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91040" y="5317920"/>
                <a:ext cx="442080" cy="106200"/>
              </a:xfrm>
              <a:custGeom>
                <a:avLst/>
                <a:gdLst/>
                <a:ahLst/>
                <a:rect l="l" t="t" r="r" b="b"/>
                <a:pathLst>
                  <a:path w="470" h="109">
                    <a:moveTo>
                      <a:pt x="253" y="86"/>
                    </a:moveTo>
                    <a:lnTo>
                      <a:pt x="270" y="88"/>
                    </a:lnTo>
                    <a:lnTo>
                      <a:pt x="287" y="88"/>
                    </a:lnTo>
                    <a:lnTo>
                      <a:pt x="303" y="90"/>
                    </a:lnTo>
                    <a:lnTo>
                      <a:pt x="319" y="90"/>
                    </a:lnTo>
                    <a:lnTo>
                      <a:pt x="334" y="88"/>
                    </a:lnTo>
                    <a:lnTo>
                      <a:pt x="349" y="87"/>
                    </a:lnTo>
                    <a:lnTo>
                      <a:pt x="364" y="86"/>
                    </a:lnTo>
                    <a:lnTo>
                      <a:pt x="379" y="84"/>
                    </a:lnTo>
                    <a:lnTo>
                      <a:pt x="393" y="81"/>
                    </a:lnTo>
                    <a:lnTo>
                      <a:pt x="406" y="79"/>
                    </a:lnTo>
                    <a:lnTo>
                      <a:pt x="418" y="77"/>
                    </a:lnTo>
                    <a:lnTo>
                      <a:pt x="430" y="73"/>
                    </a:lnTo>
                    <a:lnTo>
                      <a:pt x="441" y="71"/>
                    </a:lnTo>
                    <a:lnTo>
                      <a:pt x="452" y="68"/>
                    </a:lnTo>
                    <a:lnTo>
                      <a:pt x="461" y="65"/>
                    </a:lnTo>
                    <a:lnTo>
                      <a:pt x="470" y="63"/>
                    </a:lnTo>
                    <a:lnTo>
                      <a:pt x="470" y="65"/>
                    </a:lnTo>
                    <a:lnTo>
                      <a:pt x="465" y="71"/>
                    </a:lnTo>
                    <a:lnTo>
                      <a:pt x="457" y="79"/>
                    </a:lnTo>
                    <a:lnTo>
                      <a:pt x="453" y="84"/>
                    </a:lnTo>
                    <a:lnTo>
                      <a:pt x="449" y="86"/>
                    </a:lnTo>
                    <a:lnTo>
                      <a:pt x="442" y="88"/>
                    </a:lnTo>
                    <a:lnTo>
                      <a:pt x="434" y="92"/>
                    </a:lnTo>
                    <a:lnTo>
                      <a:pt x="423" y="95"/>
                    </a:lnTo>
                    <a:lnTo>
                      <a:pt x="408" y="99"/>
                    </a:lnTo>
                    <a:lnTo>
                      <a:pt x="392" y="102"/>
                    </a:lnTo>
                    <a:lnTo>
                      <a:pt x="374" y="105"/>
                    </a:lnTo>
                    <a:lnTo>
                      <a:pt x="355" y="107"/>
                    </a:lnTo>
                    <a:lnTo>
                      <a:pt x="333" y="109"/>
                    </a:lnTo>
                    <a:lnTo>
                      <a:pt x="310" y="109"/>
                    </a:lnTo>
                    <a:lnTo>
                      <a:pt x="286" y="109"/>
                    </a:lnTo>
                    <a:lnTo>
                      <a:pt x="260" y="108"/>
                    </a:lnTo>
                    <a:lnTo>
                      <a:pt x="234" y="105"/>
                    </a:lnTo>
                    <a:lnTo>
                      <a:pt x="207" y="100"/>
                    </a:lnTo>
                    <a:lnTo>
                      <a:pt x="180" y="94"/>
                    </a:lnTo>
                    <a:lnTo>
                      <a:pt x="152" y="86"/>
                    </a:lnTo>
                    <a:lnTo>
                      <a:pt x="124" y="76"/>
                    </a:lnTo>
                    <a:lnTo>
                      <a:pt x="98" y="64"/>
                    </a:lnTo>
                    <a:lnTo>
                      <a:pt x="73" y="50"/>
                    </a:lnTo>
                    <a:lnTo>
                      <a:pt x="48" y="37"/>
                    </a:lnTo>
                    <a:lnTo>
                      <a:pt x="29" y="23"/>
                    </a:lnTo>
                    <a:lnTo>
                      <a:pt x="14" y="12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7" y="3"/>
                    </a:lnTo>
                    <a:lnTo>
                      <a:pt x="16" y="7"/>
                    </a:lnTo>
                    <a:lnTo>
                      <a:pt x="28" y="11"/>
                    </a:lnTo>
                    <a:lnTo>
                      <a:pt x="41" y="17"/>
                    </a:lnTo>
                    <a:lnTo>
                      <a:pt x="56" y="24"/>
                    </a:lnTo>
                    <a:lnTo>
                      <a:pt x="75" y="31"/>
                    </a:lnTo>
                    <a:lnTo>
                      <a:pt x="93" y="39"/>
                    </a:lnTo>
                    <a:lnTo>
                      <a:pt x="114" y="46"/>
                    </a:lnTo>
                    <a:lnTo>
                      <a:pt x="135" y="54"/>
                    </a:lnTo>
                    <a:lnTo>
                      <a:pt x="156" y="61"/>
                    </a:lnTo>
                    <a:lnTo>
                      <a:pt x="176" y="68"/>
                    </a:lnTo>
                    <a:lnTo>
                      <a:pt x="197" y="73"/>
                    </a:lnTo>
                    <a:lnTo>
                      <a:pt x="217" y="79"/>
                    </a:lnTo>
                    <a:lnTo>
                      <a:pt x="236" y="84"/>
                    </a:lnTo>
                    <a:lnTo>
                      <a:pt x="25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68840" y="5235840"/>
                <a:ext cx="1865880" cy="570960"/>
              </a:xfrm>
              <a:custGeom>
                <a:avLst/>
                <a:gdLst/>
                <a:ahLst/>
                <a:rect l="l" t="t" r="r" b="b"/>
                <a:pathLst>
                  <a:path w="1982" h="587">
                    <a:moveTo>
                      <a:pt x="17" y="587"/>
                    </a:moveTo>
                    <a:lnTo>
                      <a:pt x="4" y="581"/>
                    </a:lnTo>
                    <a:lnTo>
                      <a:pt x="0" y="574"/>
                    </a:lnTo>
                    <a:lnTo>
                      <a:pt x="1" y="567"/>
                    </a:lnTo>
                    <a:lnTo>
                      <a:pt x="4" y="560"/>
                    </a:lnTo>
                    <a:lnTo>
                      <a:pt x="94" y="539"/>
                    </a:lnTo>
                    <a:lnTo>
                      <a:pt x="98" y="538"/>
                    </a:lnTo>
                    <a:lnTo>
                      <a:pt x="107" y="533"/>
                    </a:lnTo>
                    <a:lnTo>
                      <a:pt x="122" y="526"/>
                    </a:lnTo>
                    <a:lnTo>
                      <a:pt x="143" y="517"/>
                    </a:lnTo>
                    <a:lnTo>
                      <a:pt x="168" y="506"/>
                    </a:lnTo>
                    <a:lnTo>
                      <a:pt x="198" y="492"/>
                    </a:lnTo>
                    <a:lnTo>
                      <a:pt x="231" y="477"/>
                    </a:lnTo>
                    <a:lnTo>
                      <a:pt x="269" y="460"/>
                    </a:lnTo>
                    <a:lnTo>
                      <a:pt x="310" y="441"/>
                    </a:lnTo>
                    <a:lnTo>
                      <a:pt x="354" y="421"/>
                    </a:lnTo>
                    <a:lnTo>
                      <a:pt x="400" y="401"/>
                    </a:lnTo>
                    <a:lnTo>
                      <a:pt x="448" y="379"/>
                    </a:lnTo>
                    <a:lnTo>
                      <a:pt x="498" y="356"/>
                    </a:lnTo>
                    <a:lnTo>
                      <a:pt x="549" y="333"/>
                    </a:lnTo>
                    <a:lnTo>
                      <a:pt x="601" y="309"/>
                    </a:lnTo>
                    <a:lnTo>
                      <a:pt x="654" y="285"/>
                    </a:lnTo>
                    <a:lnTo>
                      <a:pt x="706" y="261"/>
                    </a:lnTo>
                    <a:lnTo>
                      <a:pt x="758" y="238"/>
                    </a:lnTo>
                    <a:lnTo>
                      <a:pt x="810" y="214"/>
                    </a:lnTo>
                    <a:lnTo>
                      <a:pt x="859" y="192"/>
                    </a:lnTo>
                    <a:lnTo>
                      <a:pt x="908" y="170"/>
                    </a:lnTo>
                    <a:lnTo>
                      <a:pt x="954" y="149"/>
                    </a:lnTo>
                    <a:lnTo>
                      <a:pt x="998" y="129"/>
                    </a:lnTo>
                    <a:lnTo>
                      <a:pt x="1039" y="110"/>
                    </a:lnTo>
                    <a:lnTo>
                      <a:pt x="1077" y="94"/>
                    </a:lnTo>
                    <a:lnTo>
                      <a:pt x="1112" y="78"/>
                    </a:lnTo>
                    <a:lnTo>
                      <a:pt x="1142" y="65"/>
                    </a:lnTo>
                    <a:lnTo>
                      <a:pt x="1167" y="54"/>
                    </a:lnTo>
                    <a:lnTo>
                      <a:pt x="1188" y="45"/>
                    </a:lnTo>
                    <a:lnTo>
                      <a:pt x="1203" y="38"/>
                    </a:lnTo>
                    <a:lnTo>
                      <a:pt x="1213" y="33"/>
                    </a:lnTo>
                    <a:lnTo>
                      <a:pt x="1217" y="32"/>
                    </a:lnTo>
                    <a:lnTo>
                      <a:pt x="1214" y="37"/>
                    </a:lnTo>
                    <a:lnTo>
                      <a:pt x="1207" y="47"/>
                    </a:lnTo>
                    <a:lnTo>
                      <a:pt x="1200" y="57"/>
                    </a:lnTo>
                    <a:lnTo>
                      <a:pt x="1193" y="63"/>
                    </a:lnTo>
                    <a:lnTo>
                      <a:pt x="1192" y="72"/>
                    </a:lnTo>
                    <a:lnTo>
                      <a:pt x="1193" y="81"/>
                    </a:lnTo>
                    <a:lnTo>
                      <a:pt x="1198" y="90"/>
                    </a:lnTo>
                    <a:lnTo>
                      <a:pt x="1204" y="96"/>
                    </a:lnTo>
                    <a:lnTo>
                      <a:pt x="1213" y="102"/>
                    </a:lnTo>
                    <a:lnTo>
                      <a:pt x="1227" y="106"/>
                    </a:lnTo>
                    <a:lnTo>
                      <a:pt x="1242" y="108"/>
                    </a:lnTo>
                    <a:lnTo>
                      <a:pt x="1258" y="108"/>
                    </a:lnTo>
                    <a:lnTo>
                      <a:pt x="1274" y="108"/>
                    </a:lnTo>
                    <a:lnTo>
                      <a:pt x="1288" y="107"/>
                    </a:lnTo>
                    <a:lnTo>
                      <a:pt x="1299" y="106"/>
                    </a:lnTo>
                    <a:lnTo>
                      <a:pt x="1305" y="106"/>
                    </a:lnTo>
                    <a:lnTo>
                      <a:pt x="1308" y="108"/>
                    </a:lnTo>
                    <a:lnTo>
                      <a:pt x="1309" y="109"/>
                    </a:lnTo>
                    <a:lnTo>
                      <a:pt x="1310" y="111"/>
                    </a:lnTo>
                    <a:lnTo>
                      <a:pt x="1310" y="114"/>
                    </a:lnTo>
                    <a:lnTo>
                      <a:pt x="1303" y="118"/>
                    </a:lnTo>
                    <a:lnTo>
                      <a:pt x="1295" y="123"/>
                    </a:lnTo>
                    <a:lnTo>
                      <a:pt x="1287" y="126"/>
                    </a:lnTo>
                    <a:lnTo>
                      <a:pt x="1280" y="130"/>
                    </a:lnTo>
                    <a:lnTo>
                      <a:pt x="1273" y="137"/>
                    </a:lnTo>
                    <a:lnTo>
                      <a:pt x="1265" y="145"/>
                    </a:lnTo>
                    <a:lnTo>
                      <a:pt x="1258" y="153"/>
                    </a:lnTo>
                    <a:lnTo>
                      <a:pt x="1251" y="161"/>
                    </a:lnTo>
                    <a:lnTo>
                      <a:pt x="1245" y="169"/>
                    </a:lnTo>
                    <a:lnTo>
                      <a:pt x="1238" y="178"/>
                    </a:lnTo>
                    <a:lnTo>
                      <a:pt x="1233" y="188"/>
                    </a:lnTo>
                    <a:lnTo>
                      <a:pt x="1228" y="197"/>
                    </a:lnTo>
                    <a:lnTo>
                      <a:pt x="1231" y="196"/>
                    </a:lnTo>
                    <a:lnTo>
                      <a:pt x="1242" y="192"/>
                    </a:lnTo>
                    <a:lnTo>
                      <a:pt x="1258" y="188"/>
                    </a:lnTo>
                    <a:lnTo>
                      <a:pt x="1280" y="182"/>
                    </a:lnTo>
                    <a:lnTo>
                      <a:pt x="1305" y="174"/>
                    </a:lnTo>
                    <a:lnTo>
                      <a:pt x="1333" y="166"/>
                    </a:lnTo>
                    <a:lnTo>
                      <a:pt x="1364" y="156"/>
                    </a:lnTo>
                    <a:lnTo>
                      <a:pt x="1395" y="147"/>
                    </a:lnTo>
                    <a:lnTo>
                      <a:pt x="1427" y="138"/>
                    </a:lnTo>
                    <a:lnTo>
                      <a:pt x="1460" y="128"/>
                    </a:lnTo>
                    <a:lnTo>
                      <a:pt x="1490" y="120"/>
                    </a:lnTo>
                    <a:lnTo>
                      <a:pt x="1517" y="110"/>
                    </a:lnTo>
                    <a:lnTo>
                      <a:pt x="1541" y="103"/>
                    </a:lnTo>
                    <a:lnTo>
                      <a:pt x="1562" y="98"/>
                    </a:lnTo>
                    <a:lnTo>
                      <a:pt x="1577" y="93"/>
                    </a:lnTo>
                    <a:lnTo>
                      <a:pt x="1586" y="90"/>
                    </a:lnTo>
                    <a:lnTo>
                      <a:pt x="1589" y="93"/>
                    </a:lnTo>
                    <a:lnTo>
                      <a:pt x="1591" y="99"/>
                    </a:lnTo>
                    <a:lnTo>
                      <a:pt x="1592" y="105"/>
                    </a:lnTo>
                    <a:lnTo>
                      <a:pt x="1593" y="107"/>
                    </a:lnTo>
                    <a:lnTo>
                      <a:pt x="1589" y="108"/>
                    </a:lnTo>
                    <a:lnTo>
                      <a:pt x="1577" y="111"/>
                    </a:lnTo>
                    <a:lnTo>
                      <a:pt x="1559" y="117"/>
                    </a:lnTo>
                    <a:lnTo>
                      <a:pt x="1536" y="124"/>
                    </a:lnTo>
                    <a:lnTo>
                      <a:pt x="1508" y="133"/>
                    </a:lnTo>
                    <a:lnTo>
                      <a:pt x="1477" y="143"/>
                    </a:lnTo>
                    <a:lnTo>
                      <a:pt x="1443" y="153"/>
                    </a:lnTo>
                    <a:lnTo>
                      <a:pt x="1409" y="163"/>
                    </a:lnTo>
                    <a:lnTo>
                      <a:pt x="1374" y="175"/>
                    </a:lnTo>
                    <a:lnTo>
                      <a:pt x="1341" y="185"/>
                    </a:lnTo>
                    <a:lnTo>
                      <a:pt x="1310" y="194"/>
                    </a:lnTo>
                    <a:lnTo>
                      <a:pt x="1281" y="204"/>
                    </a:lnTo>
                    <a:lnTo>
                      <a:pt x="1257" y="211"/>
                    </a:lnTo>
                    <a:lnTo>
                      <a:pt x="1238" y="216"/>
                    </a:lnTo>
                    <a:lnTo>
                      <a:pt x="1227" y="220"/>
                    </a:lnTo>
                    <a:lnTo>
                      <a:pt x="1222" y="221"/>
                    </a:lnTo>
                    <a:lnTo>
                      <a:pt x="1222" y="226"/>
                    </a:lnTo>
                    <a:lnTo>
                      <a:pt x="1223" y="231"/>
                    </a:lnTo>
                    <a:lnTo>
                      <a:pt x="1225" y="236"/>
                    </a:lnTo>
                    <a:lnTo>
                      <a:pt x="1226" y="241"/>
                    </a:lnTo>
                    <a:lnTo>
                      <a:pt x="1230" y="239"/>
                    </a:lnTo>
                    <a:lnTo>
                      <a:pt x="1242" y="235"/>
                    </a:lnTo>
                    <a:lnTo>
                      <a:pt x="1261" y="230"/>
                    </a:lnTo>
                    <a:lnTo>
                      <a:pt x="1286" y="222"/>
                    </a:lnTo>
                    <a:lnTo>
                      <a:pt x="1314" y="214"/>
                    </a:lnTo>
                    <a:lnTo>
                      <a:pt x="1347" y="205"/>
                    </a:lnTo>
                    <a:lnTo>
                      <a:pt x="1381" y="194"/>
                    </a:lnTo>
                    <a:lnTo>
                      <a:pt x="1417" y="184"/>
                    </a:lnTo>
                    <a:lnTo>
                      <a:pt x="1454" y="174"/>
                    </a:lnTo>
                    <a:lnTo>
                      <a:pt x="1490" y="163"/>
                    </a:lnTo>
                    <a:lnTo>
                      <a:pt x="1524" y="153"/>
                    </a:lnTo>
                    <a:lnTo>
                      <a:pt x="1555" y="144"/>
                    </a:lnTo>
                    <a:lnTo>
                      <a:pt x="1584" y="136"/>
                    </a:lnTo>
                    <a:lnTo>
                      <a:pt x="1607" y="129"/>
                    </a:lnTo>
                    <a:lnTo>
                      <a:pt x="1624" y="123"/>
                    </a:lnTo>
                    <a:lnTo>
                      <a:pt x="1636" y="120"/>
                    </a:lnTo>
                    <a:lnTo>
                      <a:pt x="1632" y="109"/>
                    </a:lnTo>
                    <a:lnTo>
                      <a:pt x="1623" y="92"/>
                    </a:lnTo>
                    <a:lnTo>
                      <a:pt x="1615" y="75"/>
                    </a:lnTo>
                    <a:lnTo>
                      <a:pt x="1612" y="67"/>
                    </a:lnTo>
                    <a:lnTo>
                      <a:pt x="1615" y="65"/>
                    </a:lnTo>
                    <a:lnTo>
                      <a:pt x="1622" y="62"/>
                    </a:lnTo>
                    <a:lnTo>
                      <a:pt x="1634" y="58"/>
                    </a:lnTo>
                    <a:lnTo>
                      <a:pt x="1646" y="55"/>
                    </a:lnTo>
                    <a:lnTo>
                      <a:pt x="1662" y="49"/>
                    </a:lnTo>
                    <a:lnTo>
                      <a:pt x="1680" y="45"/>
                    </a:lnTo>
                    <a:lnTo>
                      <a:pt x="1699" y="39"/>
                    </a:lnTo>
                    <a:lnTo>
                      <a:pt x="1720" y="33"/>
                    </a:lnTo>
                    <a:lnTo>
                      <a:pt x="1740" y="27"/>
                    </a:lnTo>
                    <a:lnTo>
                      <a:pt x="1760" y="22"/>
                    </a:lnTo>
                    <a:lnTo>
                      <a:pt x="1780" y="16"/>
                    </a:lnTo>
                    <a:lnTo>
                      <a:pt x="1798" y="11"/>
                    </a:lnTo>
                    <a:lnTo>
                      <a:pt x="1816" y="8"/>
                    </a:lnTo>
                    <a:lnTo>
                      <a:pt x="1831" y="4"/>
                    </a:lnTo>
                    <a:lnTo>
                      <a:pt x="1842" y="2"/>
                    </a:lnTo>
                    <a:lnTo>
                      <a:pt x="1851" y="1"/>
                    </a:lnTo>
                    <a:lnTo>
                      <a:pt x="1864" y="0"/>
                    </a:lnTo>
                    <a:lnTo>
                      <a:pt x="1877" y="0"/>
                    </a:lnTo>
                    <a:lnTo>
                      <a:pt x="1887" y="1"/>
                    </a:lnTo>
                    <a:lnTo>
                      <a:pt x="1899" y="2"/>
                    </a:lnTo>
                    <a:lnTo>
                      <a:pt x="1908" y="4"/>
                    </a:lnTo>
                    <a:lnTo>
                      <a:pt x="1917" y="8"/>
                    </a:lnTo>
                    <a:lnTo>
                      <a:pt x="1926" y="12"/>
                    </a:lnTo>
                    <a:lnTo>
                      <a:pt x="1934" y="18"/>
                    </a:lnTo>
                    <a:lnTo>
                      <a:pt x="1942" y="25"/>
                    </a:lnTo>
                    <a:lnTo>
                      <a:pt x="1950" y="33"/>
                    </a:lnTo>
                    <a:lnTo>
                      <a:pt x="1957" y="42"/>
                    </a:lnTo>
                    <a:lnTo>
                      <a:pt x="1963" y="52"/>
                    </a:lnTo>
                    <a:lnTo>
                      <a:pt x="1972" y="71"/>
                    </a:lnTo>
                    <a:lnTo>
                      <a:pt x="1979" y="91"/>
                    </a:lnTo>
                    <a:lnTo>
                      <a:pt x="1982" y="113"/>
                    </a:lnTo>
                    <a:lnTo>
                      <a:pt x="1980" y="135"/>
                    </a:lnTo>
                    <a:lnTo>
                      <a:pt x="1977" y="146"/>
                    </a:lnTo>
                    <a:lnTo>
                      <a:pt x="1972" y="158"/>
                    </a:lnTo>
                    <a:lnTo>
                      <a:pt x="1968" y="168"/>
                    </a:lnTo>
                    <a:lnTo>
                      <a:pt x="1961" y="178"/>
                    </a:lnTo>
                    <a:lnTo>
                      <a:pt x="1956" y="184"/>
                    </a:lnTo>
                    <a:lnTo>
                      <a:pt x="1953" y="190"/>
                    </a:lnTo>
                    <a:lnTo>
                      <a:pt x="1948" y="194"/>
                    </a:lnTo>
                    <a:lnTo>
                      <a:pt x="1942" y="200"/>
                    </a:lnTo>
                    <a:lnTo>
                      <a:pt x="1938" y="205"/>
                    </a:lnTo>
                    <a:lnTo>
                      <a:pt x="1932" y="208"/>
                    </a:lnTo>
                    <a:lnTo>
                      <a:pt x="1926" y="213"/>
                    </a:lnTo>
                    <a:lnTo>
                      <a:pt x="1920" y="216"/>
                    </a:lnTo>
                    <a:lnTo>
                      <a:pt x="1912" y="219"/>
                    </a:lnTo>
                    <a:lnTo>
                      <a:pt x="1903" y="221"/>
                    </a:lnTo>
                    <a:lnTo>
                      <a:pt x="1893" y="224"/>
                    </a:lnTo>
                    <a:lnTo>
                      <a:pt x="1884" y="227"/>
                    </a:lnTo>
                    <a:lnTo>
                      <a:pt x="1876" y="229"/>
                    </a:lnTo>
                    <a:lnTo>
                      <a:pt x="1869" y="230"/>
                    </a:lnTo>
                    <a:lnTo>
                      <a:pt x="1865" y="229"/>
                    </a:lnTo>
                    <a:lnTo>
                      <a:pt x="1865" y="226"/>
                    </a:lnTo>
                    <a:lnTo>
                      <a:pt x="1866" y="219"/>
                    </a:lnTo>
                    <a:lnTo>
                      <a:pt x="1872" y="214"/>
                    </a:lnTo>
                    <a:lnTo>
                      <a:pt x="1879" y="211"/>
                    </a:lnTo>
                    <a:lnTo>
                      <a:pt x="1886" y="208"/>
                    </a:lnTo>
                    <a:lnTo>
                      <a:pt x="1894" y="204"/>
                    </a:lnTo>
                    <a:lnTo>
                      <a:pt x="1902" y="198"/>
                    </a:lnTo>
                    <a:lnTo>
                      <a:pt x="1909" y="193"/>
                    </a:lnTo>
                    <a:lnTo>
                      <a:pt x="1917" y="186"/>
                    </a:lnTo>
                    <a:lnTo>
                      <a:pt x="1923" y="181"/>
                    </a:lnTo>
                    <a:lnTo>
                      <a:pt x="1930" y="174"/>
                    </a:lnTo>
                    <a:lnTo>
                      <a:pt x="1935" y="167"/>
                    </a:lnTo>
                    <a:lnTo>
                      <a:pt x="1940" y="159"/>
                    </a:lnTo>
                    <a:lnTo>
                      <a:pt x="1949" y="136"/>
                    </a:lnTo>
                    <a:lnTo>
                      <a:pt x="1955" y="110"/>
                    </a:lnTo>
                    <a:lnTo>
                      <a:pt x="1953" y="86"/>
                    </a:lnTo>
                    <a:lnTo>
                      <a:pt x="1941" y="64"/>
                    </a:lnTo>
                    <a:lnTo>
                      <a:pt x="1923" y="46"/>
                    </a:lnTo>
                    <a:lnTo>
                      <a:pt x="1906" y="33"/>
                    </a:lnTo>
                    <a:lnTo>
                      <a:pt x="1889" y="25"/>
                    </a:lnTo>
                    <a:lnTo>
                      <a:pt x="1874" y="22"/>
                    </a:lnTo>
                    <a:lnTo>
                      <a:pt x="1859" y="22"/>
                    </a:lnTo>
                    <a:lnTo>
                      <a:pt x="1844" y="24"/>
                    </a:lnTo>
                    <a:lnTo>
                      <a:pt x="1828" y="26"/>
                    </a:lnTo>
                    <a:lnTo>
                      <a:pt x="1811" y="30"/>
                    </a:lnTo>
                    <a:lnTo>
                      <a:pt x="1798" y="32"/>
                    </a:lnTo>
                    <a:lnTo>
                      <a:pt x="1780" y="37"/>
                    </a:lnTo>
                    <a:lnTo>
                      <a:pt x="1757" y="43"/>
                    </a:lnTo>
                    <a:lnTo>
                      <a:pt x="1733" y="50"/>
                    </a:lnTo>
                    <a:lnTo>
                      <a:pt x="1707" y="57"/>
                    </a:lnTo>
                    <a:lnTo>
                      <a:pt x="1683" y="64"/>
                    </a:lnTo>
                    <a:lnTo>
                      <a:pt x="1665" y="70"/>
                    </a:lnTo>
                    <a:lnTo>
                      <a:pt x="1651" y="75"/>
                    </a:lnTo>
                    <a:lnTo>
                      <a:pt x="1660" y="84"/>
                    </a:lnTo>
                    <a:lnTo>
                      <a:pt x="1666" y="94"/>
                    </a:lnTo>
                    <a:lnTo>
                      <a:pt x="1670" y="107"/>
                    </a:lnTo>
                    <a:lnTo>
                      <a:pt x="1670" y="121"/>
                    </a:lnTo>
                    <a:lnTo>
                      <a:pt x="1679" y="120"/>
                    </a:lnTo>
                    <a:lnTo>
                      <a:pt x="1694" y="116"/>
                    </a:lnTo>
                    <a:lnTo>
                      <a:pt x="1712" y="110"/>
                    </a:lnTo>
                    <a:lnTo>
                      <a:pt x="1733" y="105"/>
                    </a:lnTo>
                    <a:lnTo>
                      <a:pt x="1755" y="98"/>
                    </a:lnTo>
                    <a:lnTo>
                      <a:pt x="1775" y="92"/>
                    </a:lnTo>
                    <a:lnTo>
                      <a:pt x="1794" y="85"/>
                    </a:lnTo>
                    <a:lnTo>
                      <a:pt x="1808" y="80"/>
                    </a:lnTo>
                    <a:lnTo>
                      <a:pt x="1817" y="79"/>
                    </a:lnTo>
                    <a:lnTo>
                      <a:pt x="1826" y="77"/>
                    </a:lnTo>
                    <a:lnTo>
                      <a:pt x="1834" y="76"/>
                    </a:lnTo>
                    <a:lnTo>
                      <a:pt x="1843" y="73"/>
                    </a:lnTo>
                    <a:lnTo>
                      <a:pt x="1853" y="72"/>
                    </a:lnTo>
                    <a:lnTo>
                      <a:pt x="1861" y="71"/>
                    </a:lnTo>
                    <a:lnTo>
                      <a:pt x="1870" y="71"/>
                    </a:lnTo>
                    <a:lnTo>
                      <a:pt x="1879" y="72"/>
                    </a:lnTo>
                    <a:lnTo>
                      <a:pt x="1889" y="73"/>
                    </a:lnTo>
                    <a:lnTo>
                      <a:pt x="1897" y="76"/>
                    </a:lnTo>
                    <a:lnTo>
                      <a:pt x="1904" y="79"/>
                    </a:lnTo>
                    <a:lnTo>
                      <a:pt x="1910" y="83"/>
                    </a:lnTo>
                    <a:lnTo>
                      <a:pt x="1914" y="88"/>
                    </a:lnTo>
                    <a:lnTo>
                      <a:pt x="1917" y="94"/>
                    </a:lnTo>
                    <a:lnTo>
                      <a:pt x="1919" y="101"/>
                    </a:lnTo>
                    <a:lnTo>
                      <a:pt x="1922" y="108"/>
                    </a:lnTo>
                    <a:lnTo>
                      <a:pt x="1924" y="122"/>
                    </a:lnTo>
                    <a:lnTo>
                      <a:pt x="1920" y="136"/>
                    </a:lnTo>
                    <a:lnTo>
                      <a:pt x="1915" y="147"/>
                    </a:lnTo>
                    <a:lnTo>
                      <a:pt x="1906" y="158"/>
                    </a:lnTo>
                    <a:lnTo>
                      <a:pt x="1899" y="163"/>
                    </a:lnTo>
                    <a:lnTo>
                      <a:pt x="1892" y="168"/>
                    </a:lnTo>
                    <a:lnTo>
                      <a:pt x="1884" y="171"/>
                    </a:lnTo>
                    <a:lnTo>
                      <a:pt x="1877" y="175"/>
                    </a:lnTo>
                    <a:lnTo>
                      <a:pt x="1867" y="178"/>
                    </a:lnTo>
                    <a:lnTo>
                      <a:pt x="1858" y="182"/>
                    </a:lnTo>
                    <a:lnTo>
                      <a:pt x="1849" y="185"/>
                    </a:lnTo>
                    <a:lnTo>
                      <a:pt x="1839" y="188"/>
                    </a:lnTo>
                    <a:lnTo>
                      <a:pt x="1829" y="191"/>
                    </a:lnTo>
                    <a:lnTo>
                      <a:pt x="1820" y="194"/>
                    </a:lnTo>
                    <a:lnTo>
                      <a:pt x="1812" y="198"/>
                    </a:lnTo>
                    <a:lnTo>
                      <a:pt x="1804" y="204"/>
                    </a:lnTo>
                    <a:lnTo>
                      <a:pt x="1803" y="206"/>
                    </a:lnTo>
                    <a:lnTo>
                      <a:pt x="1803" y="211"/>
                    </a:lnTo>
                    <a:lnTo>
                      <a:pt x="1805" y="216"/>
                    </a:lnTo>
                    <a:lnTo>
                      <a:pt x="1810" y="222"/>
                    </a:lnTo>
                    <a:lnTo>
                      <a:pt x="1816" y="228"/>
                    </a:lnTo>
                    <a:lnTo>
                      <a:pt x="1823" y="232"/>
                    </a:lnTo>
                    <a:lnTo>
                      <a:pt x="1833" y="236"/>
                    </a:lnTo>
                    <a:lnTo>
                      <a:pt x="1843" y="238"/>
                    </a:lnTo>
                    <a:lnTo>
                      <a:pt x="1846" y="241"/>
                    </a:lnTo>
                    <a:lnTo>
                      <a:pt x="1846" y="244"/>
                    </a:lnTo>
                    <a:lnTo>
                      <a:pt x="1846" y="247"/>
                    </a:lnTo>
                    <a:lnTo>
                      <a:pt x="1844" y="250"/>
                    </a:lnTo>
                    <a:lnTo>
                      <a:pt x="1840" y="251"/>
                    </a:lnTo>
                    <a:lnTo>
                      <a:pt x="1835" y="251"/>
                    </a:lnTo>
                    <a:lnTo>
                      <a:pt x="1829" y="252"/>
                    </a:lnTo>
                    <a:lnTo>
                      <a:pt x="1825" y="251"/>
                    </a:lnTo>
                    <a:lnTo>
                      <a:pt x="1820" y="251"/>
                    </a:lnTo>
                    <a:lnTo>
                      <a:pt x="1816" y="250"/>
                    </a:lnTo>
                    <a:lnTo>
                      <a:pt x="1811" y="250"/>
                    </a:lnTo>
                    <a:lnTo>
                      <a:pt x="1806" y="249"/>
                    </a:lnTo>
                    <a:lnTo>
                      <a:pt x="1790" y="238"/>
                    </a:lnTo>
                    <a:lnTo>
                      <a:pt x="1780" y="222"/>
                    </a:lnTo>
                    <a:lnTo>
                      <a:pt x="1774" y="209"/>
                    </a:lnTo>
                    <a:lnTo>
                      <a:pt x="1773" y="204"/>
                    </a:lnTo>
                    <a:lnTo>
                      <a:pt x="1775" y="194"/>
                    </a:lnTo>
                    <a:lnTo>
                      <a:pt x="1779" y="185"/>
                    </a:lnTo>
                    <a:lnTo>
                      <a:pt x="1785" y="177"/>
                    </a:lnTo>
                    <a:lnTo>
                      <a:pt x="1794" y="173"/>
                    </a:lnTo>
                    <a:lnTo>
                      <a:pt x="1806" y="168"/>
                    </a:lnTo>
                    <a:lnTo>
                      <a:pt x="1820" y="163"/>
                    </a:lnTo>
                    <a:lnTo>
                      <a:pt x="1835" y="160"/>
                    </a:lnTo>
                    <a:lnTo>
                      <a:pt x="1849" y="156"/>
                    </a:lnTo>
                    <a:lnTo>
                      <a:pt x="1863" y="152"/>
                    </a:lnTo>
                    <a:lnTo>
                      <a:pt x="1874" y="146"/>
                    </a:lnTo>
                    <a:lnTo>
                      <a:pt x="1884" y="136"/>
                    </a:lnTo>
                    <a:lnTo>
                      <a:pt x="1891" y="123"/>
                    </a:lnTo>
                    <a:lnTo>
                      <a:pt x="1891" y="118"/>
                    </a:lnTo>
                    <a:lnTo>
                      <a:pt x="1889" y="114"/>
                    </a:lnTo>
                    <a:lnTo>
                      <a:pt x="1887" y="109"/>
                    </a:lnTo>
                    <a:lnTo>
                      <a:pt x="1884" y="106"/>
                    </a:lnTo>
                    <a:lnTo>
                      <a:pt x="1877" y="103"/>
                    </a:lnTo>
                    <a:lnTo>
                      <a:pt x="1867" y="102"/>
                    </a:lnTo>
                    <a:lnTo>
                      <a:pt x="1857" y="102"/>
                    </a:lnTo>
                    <a:lnTo>
                      <a:pt x="1843" y="103"/>
                    </a:lnTo>
                    <a:lnTo>
                      <a:pt x="1828" y="107"/>
                    </a:lnTo>
                    <a:lnTo>
                      <a:pt x="1811" y="110"/>
                    </a:lnTo>
                    <a:lnTo>
                      <a:pt x="1794" y="115"/>
                    </a:lnTo>
                    <a:lnTo>
                      <a:pt x="1776" y="120"/>
                    </a:lnTo>
                    <a:lnTo>
                      <a:pt x="1758" y="125"/>
                    </a:lnTo>
                    <a:lnTo>
                      <a:pt x="1740" y="131"/>
                    </a:lnTo>
                    <a:lnTo>
                      <a:pt x="1721" y="138"/>
                    </a:lnTo>
                    <a:lnTo>
                      <a:pt x="1704" y="144"/>
                    </a:lnTo>
                    <a:lnTo>
                      <a:pt x="1689" y="148"/>
                    </a:lnTo>
                    <a:lnTo>
                      <a:pt x="1674" y="154"/>
                    </a:lnTo>
                    <a:lnTo>
                      <a:pt x="1661" y="159"/>
                    </a:lnTo>
                    <a:lnTo>
                      <a:pt x="1651" y="162"/>
                    </a:lnTo>
                    <a:lnTo>
                      <a:pt x="1649" y="162"/>
                    </a:lnTo>
                    <a:lnTo>
                      <a:pt x="1645" y="161"/>
                    </a:lnTo>
                    <a:lnTo>
                      <a:pt x="1639" y="159"/>
                    </a:lnTo>
                    <a:lnTo>
                      <a:pt x="1634" y="156"/>
                    </a:lnTo>
                    <a:lnTo>
                      <a:pt x="1627" y="154"/>
                    </a:lnTo>
                    <a:lnTo>
                      <a:pt x="1621" y="152"/>
                    </a:lnTo>
                    <a:lnTo>
                      <a:pt x="1616" y="151"/>
                    </a:lnTo>
                    <a:lnTo>
                      <a:pt x="1613" y="149"/>
                    </a:lnTo>
                    <a:lnTo>
                      <a:pt x="1604" y="152"/>
                    </a:lnTo>
                    <a:lnTo>
                      <a:pt x="1589" y="156"/>
                    </a:lnTo>
                    <a:lnTo>
                      <a:pt x="1568" y="162"/>
                    </a:lnTo>
                    <a:lnTo>
                      <a:pt x="1544" y="169"/>
                    </a:lnTo>
                    <a:lnTo>
                      <a:pt x="1516" y="176"/>
                    </a:lnTo>
                    <a:lnTo>
                      <a:pt x="1486" y="185"/>
                    </a:lnTo>
                    <a:lnTo>
                      <a:pt x="1455" y="194"/>
                    </a:lnTo>
                    <a:lnTo>
                      <a:pt x="1423" y="204"/>
                    </a:lnTo>
                    <a:lnTo>
                      <a:pt x="1390" y="213"/>
                    </a:lnTo>
                    <a:lnTo>
                      <a:pt x="1359" y="222"/>
                    </a:lnTo>
                    <a:lnTo>
                      <a:pt x="1329" y="230"/>
                    </a:lnTo>
                    <a:lnTo>
                      <a:pt x="1304" y="237"/>
                    </a:lnTo>
                    <a:lnTo>
                      <a:pt x="1281" y="244"/>
                    </a:lnTo>
                    <a:lnTo>
                      <a:pt x="1263" y="250"/>
                    </a:lnTo>
                    <a:lnTo>
                      <a:pt x="1250" y="253"/>
                    </a:lnTo>
                    <a:lnTo>
                      <a:pt x="1243" y="256"/>
                    </a:lnTo>
                    <a:lnTo>
                      <a:pt x="1253" y="258"/>
                    </a:lnTo>
                    <a:lnTo>
                      <a:pt x="1267" y="259"/>
                    </a:lnTo>
                    <a:lnTo>
                      <a:pt x="1282" y="258"/>
                    </a:lnTo>
                    <a:lnTo>
                      <a:pt x="1298" y="257"/>
                    </a:lnTo>
                    <a:lnTo>
                      <a:pt x="1313" y="256"/>
                    </a:lnTo>
                    <a:lnTo>
                      <a:pt x="1325" y="254"/>
                    </a:lnTo>
                    <a:lnTo>
                      <a:pt x="1334" y="254"/>
                    </a:lnTo>
                    <a:lnTo>
                      <a:pt x="1339" y="256"/>
                    </a:lnTo>
                    <a:lnTo>
                      <a:pt x="1336" y="260"/>
                    </a:lnTo>
                    <a:lnTo>
                      <a:pt x="1328" y="268"/>
                    </a:lnTo>
                    <a:lnTo>
                      <a:pt x="1318" y="279"/>
                    </a:lnTo>
                    <a:lnTo>
                      <a:pt x="1305" y="290"/>
                    </a:lnTo>
                    <a:lnTo>
                      <a:pt x="1293" y="303"/>
                    </a:lnTo>
                    <a:lnTo>
                      <a:pt x="1282" y="312"/>
                    </a:lnTo>
                    <a:lnTo>
                      <a:pt x="1274" y="320"/>
                    </a:lnTo>
                    <a:lnTo>
                      <a:pt x="1272" y="322"/>
                    </a:lnTo>
                    <a:lnTo>
                      <a:pt x="1271" y="336"/>
                    </a:lnTo>
                    <a:lnTo>
                      <a:pt x="1271" y="350"/>
                    </a:lnTo>
                    <a:lnTo>
                      <a:pt x="1273" y="364"/>
                    </a:lnTo>
                    <a:lnTo>
                      <a:pt x="1279" y="375"/>
                    </a:lnTo>
                    <a:lnTo>
                      <a:pt x="1283" y="379"/>
                    </a:lnTo>
                    <a:lnTo>
                      <a:pt x="1289" y="379"/>
                    </a:lnTo>
                    <a:lnTo>
                      <a:pt x="1295" y="379"/>
                    </a:lnTo>
                    <a:lnTo>
                      <a:pt x="1301" y="381"/>
                    </a:lnTo>
                    <a:lnTo>
                      <a:pt x="1309" y="382"/>
                    </a:lnTo>
                    <a:lnTo>
                      <a:pt x="1321" y="381"/>
                    </a:lnTo>
                    <a:lnTo>
                      <a:pt x="1335" y="380"/>
                    </a:lnTo>
                    <a:lnTo>
                      <a:pt x="1349" y="379"/>
                    </a:lnTo>
                    <a:lnTo>
                      <a:pt x="1362" y="377"/>
                    </a:lnTo>
                    <a:lnTo>
                      <a:pt x="1373" y="375"/>
                    </a:lnTo>
                    <a:lnTo>
                      <a:pt x="1380" y="375"/>
                    </a:lnTo>
                    <a:lnTo>
                      <a:pt x="1382" y="377"/>
                    </a:lnTo>
                    <a:lnTo>
                      <a:pt x="1379" y="379"/>
                    </a:lnTo>
                    <a:lnTo>
                      <a:pt x="1371" y="385"/>
                    </a:lnTo>
                    <a:lnTo>
                      <a:pt x="1362" y="393"/>
                    </a:lnTo>
                    <a:lnTo>
                      <a:pt x="1352" y="402"/>
                    </a:lnTo>
                    <a:lnTo>
                      <a:pt x="1342" y="412"/>
                    </a:lnTo>
                    <a:lnTo>
                      <a:pt x="1335" y="421"/>
                    </a:lnTo>
                    <a:lnTo>
                      <a:pt x="1329" y="430"/>
                    </a:lnTo>
                    <a:lnTo>
                      <a:pt x="1329" y="435"/>
                    </a:lnTo>
                    <a:lnTo>
                      <a:pt x="1334" y="441"/>
                    </a:lnTo>
                    <a:lnTo>
                      <a:pt x="1342" y="447"/>
                    </a:lnTo>
                    <a:lnTo>
                      <a:pt x="1351" y="454"/>
                    </a:lnTo>
                    <a:lnTo>
                      <a:pt x="1362" y="460"/>
                    </a:lnTo>
                    <a:lnTo>
                      <a:pt x="1372" y="464"/>
                    </a:lnTo>
                    <a:lnTo>
                      <a:pt x="1379" y="469"/>
                    </a:lnTo>
                    <a:lnTo>
                      <a:pt x="1385" y="472"/>
                    </a:lnTo>
                    <a:lnTo>
                      <a:pt x="1385" y="474"/>
                    </a:lnTo>
                    <a:lnTo>
                      <a:pt x="1374" y="474"/>
                    </a:lnTo>
                    <a:lnTo>
                      <a:pt x="1362" y="472"/>
                    </a:lnTo>
                    <a:lnTo>
                      <a:pt x="1347" y="469"/>
                    </a:lnTo>
                    <a:lnTo>
                      <a:pt x="1333" y="465"/>
                    </a:lnTo>
                    <a:lnTo>
                      <a:pt x="1319" y="460"/>
                    </a:lnTo>
                    <a:lnTo>
                      <a:pt x="1308" y="455"/>
                    </a:lnTo>
                    <a:lnTo>
                      <a:pt x="1299" y="450"/>
                    </a:lnTo>
                    <a:lnTo>
                      <a:pt x="1295" y="446"/>
                    </a:lnTo>
                    <a:lnTo>
                      <a:pt x="1294" y="438"/>
                    </a:lnTo>
                    <a:lnTo>
                      <a:pt x="1294" y="430"/>
                    </a:lnTo>
                    <a:lnTo>
                      <a:pt x="1296" y="420"/>
                    </a:lnTo>
                    <a:lnTo>
                      <a:pt x="1299" y="413"/>
                    </a:lnTo>
                    <a:lnTo>
                      <a:pt x="1305" y="410"/>
                    </a:lnTo>
                    <a:lnTo>
                      <a:pt x="1312" y="404"/>
                    </a:lnTo>
                    <a:lnTo>
                      <a:pt x="1317" y="400"/>
                    </a:lnTo>
                    <a:lnTo>
                      <a:pt x="1319" y="396"/>
                    </a:lnTo>
                    <a:lnTo>
                      <a:pt x="1308" y="396"/>
                    </a:lnTo>
                    <a:lnTo>
                      <a:pt x="1296" y="396"/>
                    </a:lnTo>
                    <a:lnTo>
                      <a:pt x="1284" y="396"/>
                    </a:lnTo>
                    <a:lnTo>
                      <a:pt x="1273" y="395"/>
                    </a:lnTo>
                    <a:lnTo>
                      <a:pt x="1261" y="392"/>
                    </a:lnTo>
                    <a:lnTo>
                      <a:pt x="1252" y="387"/>
                    </a:lnTo>
                    <a:lnTo>
                      <a:pt x="1244" y="379"/>
                    </a:lnTo>
                    <a:lnTo>
                      <a:pt x="1237" y="370"/>
                    </a:lnTo>
                    <a:lnTo>
                      <a:pt x="1235" y="364"/>
                    </a:lnTo>
                    <a:lnTo>
                      <a:pt x="1233" y="358"/>
                    </a:lnTo>
                    <a:lnTo>
                      <a:pt x="1231" y="351"/>
                    </a:lnTo>
                    <a:lnTo>
                      <a:pt x="1230" y="345"/>
                    </a:lnTo>
                    <a:lnTo>
                      <a:pt x="1233" y="337"/>
                    </a:lnTo>
                    <a:lnTo>
                      <a:pt x="1237" y="327"/>
                    </a:lnTo>
                    <a:lnTo>
                      <a:pt x="1243" y="317"/>
                    </a:lnTo>
                    <a:lnTo>
                      <a:pt x="1250" y="306"/>
                    </a:lnTo>
                    <a:lnTo>
                      <a:pt x="1256" y="297"/>
                    </a:lnTo>
                    <a:lnTo>
                      <a:pt x="1260" y="289"/>
                    </a:lnTo>
                    <a:lnTo>
                      <a:pt x="1264" y="284"/>
                    </a:lnTo>
                    <a:lnTo>
                      <a:pt x="1265" y="282"/>
                    </a:lnTo>
                    <a:lnTo>
                      <a:pt x="1259" y="282"/>
                    </a:lnTo>
                    <a:lnTo>
                      <a:pt x="1253" y="282"/>
                    </a:lnTo>
                    <a:lnTo>
                      <a:pt x="1249" y="281"/>
                    </a:lnTo>
                    <a:lnTo>
                      <a:pt x="1243" y="281"/>
                    </a:lnTo>
                    <a:lnTo>
                      <a:pt x="1238" y="280"/>
                    </a:lnTo>
                    <a:lnTo>
                      <a:pt x="1233" y="279"/>
                    </a:lnTo>
                    <a:lnTo>
                      <a:pt x="1228" y="277"/>
                    </a:lnTo>
                    <a:lnTo>
                      <a:pt x="1223" y="275"/>
                    </a:lnTo>
                    <a:lnTo>
                      <a:pt x="1219" y="274"/>
                    </a:lnTo>
                    <a:lnTo>
                      <a:pt x="1213" y="271"/>
                    </a:lnTo>
                    <a:lnTo>
                      <a:pt x="1208" y="268"/>
                    </a:lnTo>
                    <a:lnTo>
                      <a:pt x="1203" y="264"/>
                    </a:lnTo>
                    <a:lnTo>
                      <a:pt x="1198" y="259"/>
                    </a:lnTo>
                    <a:lnTo>
                      <a:pt x="1193" y="254"/>
                    </a:lnTo>
                    <a:lnTo>
                      <a:pt x="1190" y="250"/>
                    </a:lnTo>
                    <a:lnTo>
                      <a:pt x="1188" y="244"/>
                    </a:lnTo>
                    <a:lnTo>
                      <a:pt x="1190" y="227"/>
                    </a:lnTo>
                    <a:lnTo>
                      <a:pt x="1196" y="209"/>
                    </a:lnTo>
                    <a:lnTo>
                      <a:pt x="1204" y="193"/>
                    </a:lnTo>
                    <a:lnTo>
                      <a:pt x="1213" y="177"/>
                    </a:lnTo>
                    <a:lnTo>
                      <a:pt x="1233" y="151"/>
                    </a:lnTo>
                    <a:lnTo>
                      <a:pt x="357" y="470"/>
                    </a:lnTo>
                    <a:lnTo>
                      <a:pt x="356" y="469"/>
                    </a:lnTo>
                    <a:lnTo>
                      <a:pt x="355" y="468"/>
                    </a:lnTo>
                    <a:lnTo>
                      <a:pt x="355" y="466"/>
                    </a:lnTo>
                    <a:lnTo>
                      <a:pt x="355" y="465"/>
                    </a:lnTo>
                    <a:lnTo>
                      <a:pt x="1210" y="137"/>
                    </a:lnTo>
                    <a:lnTo>
                      <a:pt x="1211" y="136"/>
                    </a:lnTo>
                    <a:lnTo>
                      <a:pt x="1203" y="129"/>
                    </a:lnTo>
                    <a:lnTo>
                      <a:pt x="1193" y="122"/>
                    </a:lnTo>
                    <a:lnTo>
                      <a:pt x="1185" y="114"/>
                    </a:lnTo>
                    <a:lnTo>
                      <a:pt x="1181" y="105"/>
                    </a:lnTo>
                    <a:lnTo>
                      <a:pt x="1178" y="99"/>
                    </a:lnTo>
                    <a:lnTo>
                      <a:pt x="1176" y="92"/>
                    </a:lnTo>
                    <a:lnTo>
                      <a:pt x="1175" y="85"/>
                    </a:lnTo>
                    <a:lnTo>
                      <a:pt x="1174" y="77"/>
                    </a:lnTo>
                    <a:lnTo>
                      <a:pt x="160" y="532"/>
                    </a:lnTo>
                    <a:lnTo>
                      <a:pt x="1279" y="460"/>
                    </a:lnTo>
                    <a:lnTo>
                      <a:pt x="1283" y="462"/>
                    </a:lnTo>
                    <a:lnTo>
                      <a:pt x="1287" y="466"/>
                    </a:lnTo>
                    <a:lnTo>
                      <a:pt x="1289" y="471"/>
                    </a:lnTo>
                    <a:lnTo>
                      <a:pt x="1294" y="474"/>
                    </a:lnTo>
                    <a:lnTo>
                      <a:pt x="1293" y="479"/>
                    </a:lnTo>
                    <a:lnTo>
                      <a:pt x="1291" y="483"/>
                    </a:lnTo>
                    <a:lnTo>
                      <a:pt x="1289" y="486"/>
                    </a:lnTo>
                    <a:lnTo>
                      <a:pt x="1283" y="487"/>
                    </a:lnTo>
                    <a:lnTo>
                      <a:pt x="133" y="564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47840" y="5519520"/>
                <a:ext cx="829800" cy="213480"/>
              </a:xfrm>
              <a:custGeom>
                <a:avLst/>
                <a:gdLst/>
                <a:ahLst/>
                <a:rect l="l" t="t" r="r" b="b"/>
                <a:pathLst>
                  <a:path w="881" h="220">
                    <a:moveTo>
                      <a:pt x="5" y="220"/>
                    </a:moveTo>
                    <a:lnTo>
                      <a:pt x="2" y="219"/>
                    </a:lnTo>
                    <a:lnTo>
                      <a:pt x="1" y="217"/>
                    </a:lnTo>
                    <a:lnTo>
                      <a:pt x="0" y="216"/>
                    </a:lnTo>
                    <a:lnTo>
                      <a:pt x="0" y="213"/>
                    </a:lnTo>
                    <a:lnTo>
                      <a:pt x="874" y="0"/>
                    </a:lnTo>
                    <a:lnTo>
                      <a:pt x="877" y="3"/>
                    </a:lnTo>
                    <a:lnTo>
                      <a:pt x="879" y="8"/>
                    </a:lnTo>
                    <a:lnTo>
                      <a:pt x="881" y="13"/>
                    </a:lnTo>
                    <a:lnTo>
                      <a:pt x="881" y="16"/>
                    </a:lnTo>
                    <a:lnTo>
                      <a:pt x="5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397960" y="5630400"/>
                <a:ext cx="749520" cy="92880"/>
              </a:xfrm>
              <a:custGeom>
                <a:avLst/>
                <a:gdLst/>
                <a:ahLst/>
                <a:rect l="l" t="t" r="r" b="b"/>
                <a:pathLst>
                  <a:path w="795" h="96">
                    <a:moveTo>
                      <a:pt x="779" y="0"/>
                    </a:moveTo>
                    <a:lnTo>
                      <a:pt x="784" y="3"/>
                    </a:lnTo>
                    <a:lnTo>
                      <a:pt x="789" y="7"/>
                    </a:lnTo>
                    <a:lnTo>
                      <a:pt x="794" y="13"/>
                    </a:lnTo>
                    <a:lnTo>
                      <a:pt x="795" y="16"/>
                    </a:lnTo>
                    <a:lnTo>
                      <a:pt x="13" y="96"/>
                    </a:lnTo>
                    <a:lnTo>
                      <a:pt x="10" y="96"/>
                    </a:lnTo>
                    <a:lnTo>
                      <a:pt x="10" y="95"/>
                    </a:lnTo>
                    <a:lnTo>
                      <a:pt x="0" y="87"/>
                    </a:lnTo>
                    <a:lnTo>
                      <a:pt x="7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40360" y="3860640"/>
            <a:ext cx="1787760" cy="1887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292428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О физическом или о химическом явлении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589720"/>
            <a:ext cx="331164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Mistral"/>
              </a:rPr>
              <a:t>«Сапоги мои того: пропускают </a:t>
            </a: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H</a:t>
            </a:r>
            <a:r>
              <a:rPr b="0" lang="en-US" sz="3200" spc="-1" strike="noStrike" baseline="-25000">
                <a:solidFill>
                  <a:srgbClr val="bbe0e3"/>
                </a:solidFill>
                <a:latin typeface="Mistral"/>
              </a:rPr>
              <a:t>2</a:t>
            </a: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O</a:t>
            </a:r>
            <a:r>
              <a:rPr b="0" lang="ru-RU" sz="3200" spc="-1" strike="noStrike">
                <a:solidFill>
                  <a:srgbClr val="bbe0e3"/>
                </a:solidFill>
                <a:latin typeface="Mistr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558972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Нагревание вольфрамовой нити в ламп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2d6d"/>
            </a:gs>
            <a:gs pos="50000">
              <a:srgbClr val="bdb2d2"/>
            </a:gs>
            <a:gs pos="100000">
              <a:srgbClr val="362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476280"/>
            <a:ext cx="8569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Первоначальные химические поня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Mistral"/>
              </a:rPr>
              <a:t>Основные классы неорганических соеди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1484280"/>
            <a:ext cx="36003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Вопросы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Mistral"/>
              </a:rPr>
              <a:t>I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istral"/>
              </a:rPr>
              <a:t>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242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efff"/>
                </a:solidFill>
                <a:uFillTx/>
                <a:latin typeface="Mistral"/>
              </a:rPr>
              <a:t>Вопрос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292428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О физическом или о химическом явлении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4581360"/>
            <a:ext cx="1890720" cy="14511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4788000" y="4000320"/>
            <a:ext cx="3442320" cy="2240640"/>
            <a:chOff x="4788000" y="4000320"/>
            <a:chExt cx="3442320" cy="2240640"/>
          </a:xfrm>
        </p:grpSpPr>
        <p:grpSp>
          <p:nvGrpSpPr>
            <p:cNvPr id="152" name=""/>
            <p:cNvGrpSpPr/>
            <p:nvPr/>
          </p:nvGrpSpPr>
          <p:grpSpPr>
            <a:xfrm>
              <a:off x="4788000" y="4652640"/>
              <a:ext cx="3168000" cy="1078560"/>
              <a:chOff x="4788000" y="4652640"/>
              <a:chExt cx="3168000" cy="1078560"/>
            </a:xfrm>
          </p:grpSpPr>
          <p:sp>
            <p:nvSpPr>
              <p:cNvPr id="153" name=""/>
              <p:cNvSpPr/>
              <p:nvPr/>
            </p:nvSpPr>
            <p:spPr>
              <a:xfrm>
                <a:off x="4788000" y="4892760"/>
                <a:ext cx="316800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88000" y="4652640"/>
                <a:ext cx="3168000" cy="83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rot="859200">
              <a:off x="5651280" y="4903560"/>
              <a:ext cx="1711440" cy="752040"/>
            </a:xfrm>
            <a:prstGeom prst="irregularSeal2">
              <a:avLst/>
            </a:prstGeom>
            <a:solidFill>
              <a:srgbClr val="cde9eb">
                <a:alpha val="40000"/>
              </a:srgbClr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 flipH="1" rot="19346400">
              <a:off x="6360840" y="4292640"/>
              <a:ext cx="1522440" cy="16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611280" y="595008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Растворение сахара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5589720"/>
            <a:ext cx="36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Mistral"/>
              </a:rPr>
              <a:t>Проволока сплющивается от удара молот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33:46Z</dcterms:created>
  <dc:creator>MASHA</dc:creator>
  <dc:description/>
  <dc:language>en-US</dc:language>
  <cp:lastModifiedBy>s.orlova</cp:lastModifiedBy>
  <dcterms:modified xsi:type="dcterms:W3CDTF">2005-04-19T07:04:01Z</dcterms:modified>
  <cp:revision>21</cp:revision>
  <dc:subject/>
  <dc:title>Слайд 1</dc:title>
</cp:coreProperties>
</file>